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35.gif" ContentType="image/gif"/>
  <Override PartName="/ppt/media/image23.gif" ContentType="image/gif"/>
  <Override PartName="/ppt/media/image22.jpeg" ContentType="image/jpeg"/>
  <Override PartName="/ppt/media/image9.png" ContentType="image/png"/>
  <Override PartName="/ppt/media/image20.gif" ContentType="image/gif"/>
  <Override PartName="/ppt/media/image19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21.gif" ContentType="image/gif"/>
  <Override PartName="/ppt/media/image24.png" ContentType="image/png"/>
  <Override PartName="/ppt/media/image11.jpeg" ContentType="image/jpeg"/>
  <Override PartName="/ppt/media/image31.gif" ContentType="image/gif"/>
  <Override PartName="/ppt/media/image1.png" ContentType="image/png"/>
  <Override PartName="/ppt/media/image10.gif" ContentType="image/gif"/>
  <Override PartName="/ppt/media/image38.gif" ContentType="image/gif"/>
  <Override PartName="/ppt/media/image43.png" ContentType="image/png"/>
  <Override PartName="/ppt/media/image30.jpeg" ContentType="image/jpeg"/>
  <Override PartName="/ppt/media/image44.gif" ContentType="image/gif"/>
  <Override PartName="/ppt/media/image12.png" ContentType="image/png"/>
  <Override PartName="/ppt/media/image40.gif" ContentType="image/gif"/>
  <Override PartName="/ppt/media/image33.png" ContentType="image/png"/>
  <Override PartName="/ppt/media/image8.png" ContentType="image/png"/>
  <Override PartName="/ppt/media/image39.jpeg" ContentType="image/jpeg"/>
  <Override PartName="/ppt/media/image45.png" ContentType="image/png"/>
  <Override PartName="/ppt/media/image42.gif" ContentType="image/gif"/>
  <Override PartName="/ppt/media/image27.jpeg" ContentType="image/jpeg"/>
  <Override PartName="/ppt/media/image41.gif" ContentType="image/gif"/>
  <Override PartName="/ppt/media/image34.png" ContentType="image/png"/>
  <Override PartName="/ppt/media/image46.png" ContentType="image/png"/>
  <Override PartName="/ppt/media/image37.gif" ContentType="image/gif"/>
  <Override PartName="/ppt/media/image7.gif" ContentType="image/gif"/>
  <Override PartName="/ppt/media/image5.jpeg" ContentType="image/jpeg"/>
  <Override PartName="/ppt/media/image26.jpeg" ContentType="image/jpeg"/>
  <Override PartName="/ppt/media/image13.gif" ContentType="image/gif"/>
  <Override PartName="/ppt/media/image16.jpeg" ContentType="image/jpe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.gif" ContentType="image/gif"/>
  <Override PartName="/ppt/media/image29.png" ContentType="image/png"/>
  <Override PartName="/ppt/media/image3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2171-8CC6-4241-A955-4C150D6BD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84AC-691A-40CA-AF4B-C3CBF8EE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F471-182B-44E5-8E03-EFCE50C7A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664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87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664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87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25E8-8669-4051-8EB0-B9B5DAC23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1227-433A-4AE3-8640-D6FF57BF1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8EFA-3AD7-4F2A-BE94-E1A190E6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42B0-A563-47AF-867D-CFD9CA95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4071-8DF9-45A0-9568-762429A9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870F-DD46-484D-841D-D852A2F9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94920" y="457200"/>
            <a:ext cx="716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A157-7995-4867-B64D-3E1FDB90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7FB9-12CF-4D18-947A-43A17DB3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02BA-F7B2-4A3D-9809-9C72AC80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EBF4-B47C-44E7-973E-0DDA47D7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0E85-00E7-4DCB-ABC0-3DC9E486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74868-151A-47E2-A0E9-319563D1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F6207-8906-4A9E-818A-457149DCD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664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87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949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664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87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2D71B-9782-45D5-9D7D-49E206F0C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2870-4236-4F6D-B529-F316AFED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F64D-6117-4743-A92E-ED6DFF1B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A320-D830-4C27-AB41-A47514FD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457200"/>
            <a:ext cx="716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E0AD-17AD-4C6A-87B0-D82A6F6A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AF49-8562-48DD-A400-3FFA85D0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F667-E8C6-4F84-9B2E-FAF2C2DC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6637-7294-41AC-9E78-31413240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949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3135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6828-9D85-4A06-8D3B-98B981F9A191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E9E5-13FC-4E01-9097-0DC03B8B32C4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hyperlink" Target="http://search.aol.ca/redir?urn=http://z.about.com/d/geology/1/0/U/A/1/gold500.jpg&amp;rank=%20&amp;source=googleImage&amp;searchType=IS&amp;partner=Google&amp;query=gold%20nugget" TargetMode="External"/><Relationship Id="rId4" Type="http://schemas.openxmlformats.org/officeDocument/2006/relationships/image" Target="../media/image30.jpeg"/><Relationship Id="rId5" Type="http://schemas.openxmlformats.org/officeDocument/2006/relationships/image" Target="../media/image31.gif"/><Relationship Id="rId6" Type="http://schemas.openxmlformats.org/officeDocument/2006/relationships/image" Target="../media/image32.png"/><Relationship Id="rId7" Type="http://schemas.openxmlformats.org/officeDocument/2006/relationships/image" Target="../media/image31.gif"/><Relationship Id="rId8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3.png"/><Relationship Id="rId4" Type="http://schemas.openxmlformats.org/officeDocument/2006/relationships/image" Target="../media/image31.gif"/><Relationship Id="rId5" Type="http://schemas.openxmlformats.org/officeDocument/2006/relationships/image" Target="../media/image31.gif"/><Relationship Id="rId6" Type="http://schemas.openxmlformats.org/officeDocument/2006/relationships/image" Target="../media/image34.png"/><Relationship Id="rId7" Type="http://schemas.openxmlformats.org/officeDocument/2006/relationships/image" Target="../media/image31.gif"/><Relationship Id="rId8" Type="http://schemas.openxmlformats.org/officeDocument/2006/relationships/image" Target="../media/image31.gif"/><Relationship Id="rId9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earch.aol.ca/redir?urn=http://z.about.com/d/geology/1/0/U/A/1/gold500.jpg&amp;rank=%20&amp;source=googleImage&amp;searchType=IS&amp;partner=Google&amp;query=gold%20nugget" TargetMode="External"/><Relationship Id="rId3" Type="http://schemas.openxmlformats.org/officeDocument/2006/relationships/image" Target="../media/image30.jpeg"/><Relationship Id="rId4" Type="http://schemas.openxmlformats.org/officeDocument/2006/relationships/image" Target="../media/image35.gif"/><Relationship Id="rId5" Type="http://schemas.openxmlformats.org/officeDocument/2006/relationships/image" Target="../media/image7.gif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image" Target="../media/image36.gif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n.wikipedia.org/wiki/Image:Convection.gif" TargetMode="External"/><Relationship Id="rId3" Type="http://schemas.openxmlformats.org/officeDocument/2006/relationships/image" Target="../media/image37.gif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jpeg"/><Relationship Id="rId3" Type="http://schemas.openxmlformats.org/officeDocument/2006/relationships/image" Target="../media/image40.gif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gif"/><Relationship Id="rId3" Type="http://schemas.openxmlformats.org/officeDocument/2006/relationships/image" Target="../media/image7.gif"/><Relationship Id="rId4" Type="http://schemas.openxmlformats.org/officeDocument/2006/relationships/image" Target="../media/image36.gif"/><Relationship Id="rId5" Type="http://schemas.openxmlformats.org/officeDocument/2006/relationships/hyperlink" Target="http://en.wikipedia.org/wiki/Image:Convection.gif" TargetMode="External"/><Relationship Id="rId6" Type="http://schemas.openxmlformats.org/officeDocument/2006/relationships/image" Target="../media/image37.gif"/><Relationship Id="rId7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gif"/><Relationship Id="rId3" Type="http://schemas.openxmlformats.org/officeDocument/2006/relationships/image" Target="../media/image42.gi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gi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 Black"/>
              </a:rPr>
              <a:t>Metrics &amp; Density</a:t>
            </a: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105520" y="3124080"/>
            <a:ext cx="4038480" cy="2979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762120" y="31240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1676520"/>
            <a:ext cx="8458200" cy="53316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2438280"/>
            <a:ext cx="8384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1460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2438280"/>
            <a:ext cx="8384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9112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67280" y="2438280"/>
            <a:ext cx="8384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4380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2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19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47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002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765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524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288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051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574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337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096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62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38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432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195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954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718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481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290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05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81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657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098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0384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1148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1911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2670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3434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197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956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648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00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76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292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1055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814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578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4100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4864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5627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6386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150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91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867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43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958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2485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3244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4008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4771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294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057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7816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10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086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162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88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3152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3915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4674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5438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6201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6960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7724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8487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9246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0010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077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153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229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305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rot="16200000">
            <a:off x="3809880" y="227880"/>
            <a:ext cx="685800" cy="8305920"/>
          </a:xfrm>
          <a:custGeom>
            <a:avLst/>
            <a:gdLst>
              <a:gd name="textAreaLeft" fmla="*/ 438120 w 685800"/>
              <a:gd name="textAreaRight" fmla="*/ 686160 w 685800"/>
              <a:gd name="textAreaTop" fmla="*/ 216360 h 8305920"/>
              <a:gd name="textAreaBottom" fmla="*/ 8089560 h 830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4876920"/>
            <a:ext cx="4876920" cy="10666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100 centimeters = 1 met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Each unit is 10 times </a:t>
            </a:r>
            <a:br>
              <a:rPr sz="3600"/>
            </a:b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Smaller or 10 times Larger!!!!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How many millimeters make up 1meter?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1676520"/>
            <a:ext cx="8458200" cy="53316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38080" y="2438280"/>
            <a:ext cx="8384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7652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51460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2438280"/>
            <a:ext cx="8384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19112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2920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867280" y="2438280"/>
            <a:ext cx="8384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0572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4380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6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52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8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08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35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621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380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144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907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0666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1430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219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371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447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5238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6002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765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7524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8288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9051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9810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0574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337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096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362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38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514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590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6668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7432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8195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8954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9718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481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1240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2767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3526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290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505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581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657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733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098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9625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0384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1148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1911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2670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4197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956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648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724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800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876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9528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0292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1055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1814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2578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3341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4100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4864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5627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6386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7150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791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867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43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019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0958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1722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2485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3244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4008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4771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5530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6294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7057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7816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934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010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086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162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2388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3152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3915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4674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5438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6201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6960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7724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8487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9246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0010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077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153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229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305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90720" y="4572000"/>
            <a:ext cx="75960" cy="609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666880" y="4114800"/>
            <a:ext cx="259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000 millimeters make up one (1) meter!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0" y="1676520"/>
            <a:ext cx="8458200" cy="53316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38080" y="2438280"/>
            <a:ext cx="8384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67652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51460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352680" y="2438280"/>
            <a:ext cx="8384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19112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02920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867280" y="2438280"/>
            <a:ext cx="8384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70572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54380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6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52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28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04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08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572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335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094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858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621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380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9144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9907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0666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430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219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295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371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447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5238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6765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7524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8288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9051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9810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0574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1337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2860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362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38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6668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7432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9718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0481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1240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2004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2767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3526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4290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505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581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657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733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8098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862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9625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0384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1148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1911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2670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3434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4197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4956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5720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648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724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800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876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528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0292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1814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2578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3341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4100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4864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5627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6386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7150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791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867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943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019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0958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1722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2485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3244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4008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4771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5530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6294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7057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7816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8580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934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010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086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162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2388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3152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3915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4674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5438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6201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6960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7724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8487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9246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80010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8077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8153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229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305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990720" y="4572000"/>
            <a:ext cx="75960" cy="609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666880" y="4114800"/>
            <a:ext cx="259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219320" y="4191120"/>
            <a:ext cx="5257800" cy="1447560"/>
          </a:xfrm>
          <a:prstGeom prst="leftArrowCallout">
            <a:avLst>
              <a:gd name="adj1" fmla="val 30262"/>
              <a:gd name="adj2" fmla="val 25000"/>
              <a:gd name="adj3" fmla="val 55273"/>
              <a:gd name="adj4" fmla="val 78660"/>
            </a:avLst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0 millimeters can fit into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 centimet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It takes 10 millimeters to make up 1 centimeter.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20" name=""/>
          <p:cNvSpPr/>
          <p:nvPr/>
        </p:nvSpPr>
        <p:spPr>
          <a:xfrm>
            <a:off x="0" y="1676520"/>
            <a:ext cx="8458200" cy="53316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838080" y="2438280"/>
            <a:ext cx="8384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67652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51460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352680" y="2438280"/>
            <a:ext cx="8384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19112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02920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867280" y="2438280"/>
            <a:ext cx="8384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70572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54380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6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52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28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04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808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572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35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858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621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380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9144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9907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0666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1430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219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295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371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447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5238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6002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6765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7524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8288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9051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9810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0574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1337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096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2860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362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438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514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590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6668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7432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8195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8954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9718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0481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1240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2004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2767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3526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4290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505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581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657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733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8098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8862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9625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0384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1148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1911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3434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197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4956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5720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648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724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800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876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9528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0292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1055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1814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2578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3341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4100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4864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5627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6386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7150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791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943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019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0958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1722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2485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3244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4008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4771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5530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6294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7057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7816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8580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934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010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086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162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2388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3152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3915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74674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5438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76201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76960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7724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8487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9246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80010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8077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8153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8229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8305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85800" y="5334120"/>
            <a:ext cx="746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illimeters are so small that they almost run together.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0" y="4343400"/>
            <a:ext cx="8458200" cy="609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240">
            <a:solidFill>
              <a:srgbClr val="5c1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"/>
          <p:cNvGrpSpPr/>
          <p:nvPr/>
        </p:nvGrpSpPr>
        <p:grpSpPr>
          <a:xfrm>
            <a:off x="3832560" y="921600"/>
            <a:ext cx="4765320" cy="4867200"/>
            <a:chOff x="3832560" y="921600"/>
            <a:chExt cx="4765320" cy="4867200"/>
          </a:xfrm>
        </p:grpSpPr>
        <p:sp>
          <p:nvSpPr>
            <p:cNvPr id="644" name=""/>
            <p:cNvSpPr/>
            <p:nvPr/>
          </p:nvSpPr>
          <p:spPr>
            <a:xfrm>
              <a:off x="3848040" y="921600"/>
              <a:ext cx="4749840" cy="7016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32560" y="2349000"/>
              <a:ext cx="47052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303440" y="2349000"/>
              <a:ext cx="47052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773960" y="2349000"/>
              <a:ext cx="47052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244840" y="2349000"/>
              <a:ext cx="47052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715360" y="2349000"/>
              <a:ext cx="47052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186240" y="2349000"/>
              <a:ext cx="47052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656760" y="2349000"/>
              <a:ext cx="47052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127640" y="2349000"/>
              <a:ext cx="47052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598160" y="2349000"/>
              <a:ext cx="47052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069040" y="2349000"/>
              <a:ext cx="47052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8325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8754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9182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9610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0035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0464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0892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1320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1749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2177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2606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3034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3459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3887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4316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4744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5172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5601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6029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6458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6882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7311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7739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8168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8596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9024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9453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9881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0306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734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1163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1591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2020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2448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2876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3305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3730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4158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4586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5015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5443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5872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6296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6725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7153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7582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8010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8438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8867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9295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9720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0148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0577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1005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1434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1862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2290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2719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3144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3572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4000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4429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4857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5286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5714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6142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6567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6996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7424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7852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8281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8709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9138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9562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9991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0419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0848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1276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1704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2133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2558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2986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3414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3843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4271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4700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5128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5556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5981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6410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6838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7266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7695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8123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8552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8980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9405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9833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0262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0690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81118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81547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1975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2404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2832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3257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3685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4114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4542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4970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848040" y="5018040"/>
              <a:ext cx="4749840" cy="770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766" name=""/>
          <p:cNvSpPr/>
          <p:nvPr/>
        </p:nvSpPr>
        <p:spPr>
          <a:xfrm>
            <a:off x="914400" y="762120"/>
            <a:ext cx="2933640" cy="1371600"/>
          </a:xfrm>
          <a:prstGeom prst="rightArrowCallout">
            <a:avLst>
              <a:gd name="adj1" fmla="val 27086"/>
              <a:gd name="adj2" fmla="val 25000"/>
              <a:gd name="adj3" fmla="val 29280"/>
              <a:gd name="adj4" fmla="val 83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1 me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member 1 meter is much larger)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914400" y="2133720"/>
            <a:ext cx="2933640" cy="1143000"/>
          </a:xfrm>
          <a:prstGeom prst="rightArrowCallout">
            <a:avLst>
              <a:gd name="adj1" fmla="val 27086"/>
              <a:gd name="adj2" fmla="val 23611"/>
              <a:gd name="adj3" fmla="val 35136"/>
              <a:gd name="adj4" fmla="val 83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eter =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decimeter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914400" y="3276720"/>
            <a:ext cx="2933640" cy="1447560"/>
          </a:xfrm>
          <a:prstGeom prst="rightArrowCallout">
            <a:avLst>
              <a:gd name="adj1" fmla="val 19891"/>
              <a:gd name="adj2" fmla="val 20074"/>
              <a:gd name="adj3" fmla="val 27688"/>
              <a:gd name="adj4" fmla="val 83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eter =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centimeter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914400" y="4572000"/>
            <a:ext cx="2933640" cy="1447920"/>
          </a:xfrm>
          <a:prstGeom prst="rightArrowCallout">
            <a:avLst>
              <a:gd name="adj1" fmla="val 19891"/>
              <a:gd name="adj2" fmla="val 20074"/>
              <a:gd name="adj3" fmla="val 27681"/>
              <a:gd name="adj4" fmla="val 83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eter =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 millimeter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Divide by powers of 10!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 Black"/>
              </a:rPr>
              <a:t>Basic Units of the </a:t>
            </a:r>
            <a:br>
              <a:rPr sz="3200"/>
            </a:br>
            <a:r>
              <a:rPr b="0" lang="en-US" sz="3200" spc="-1" strike="noStrike">
                <a:solidFill>
                  <a:srgbClr val="dfd293"/>
                </a:solidFill>
                <a:latin typeface="Arial Black"/>
              </a:rPr>
              <a:t>Metric System</a:t>
            </a:r>
            <a:endParaRPr b="0" lang="en-US" sz="32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e mass or weigh something we use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ram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gth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e measure distance or length, we use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t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asurement of how much space an object takes up and is measured by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it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The Meter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294920" y="137124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ter is used to measure length and distan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ilometer is a 1000 meters and is similar in length to the mi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75" name="" descr=""/>
          <p:cNvPicPr/>
          <p:nvPr/>
        </p:nvPicPr>
        <p:blipFill>
          <a:blip r:embed="rId2"/>
          <a:stretch/>
        </p:blipFill>
        <p:spPr>
          <a:xfrm>
            <a:off x="3048120" y="40006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What is the Meter?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6553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ter is used to measure ____ and distan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78" name="" descr=""/>
          <p:cNvPicPr/>
          <p:nvPr/>
        </p:nvPicPr>
        <p:blipFill>
          <a:blip r:embed="rId2"/>
          <a:stretch/>
        </p:blipFill>
        <p:spPr>
          <a:xfrm>
            <a:off x="3048120" y="40006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779" name=""/>
          <p:cNvSpPr/>
          <p:nvPr/>
        </p:nvSpPr>
        <p:spPr>
          <a:xfrm>
            <a:off x="7086600" y="2514600"/>
            <a:ext cx="2057400" cy="3581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7238880" y="3048120"/>
            <a:ext cx="16765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ghing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ff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81" name="" descr=""/>
          <p:cNvPicPr/>
          <p:nvPr/>
        </p:nvPicPr>
        <p:blipFill>
          <a:blip r:embed="rId3"/>
          <a:stretch/>
        </p:blipFill>
        <p:spPr>
          <a:xfrm>
            <a:off x="1066680" y="838080"/>
            <a:ext cx="7772400" cy="427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The Gram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 gram is used to measure Mas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ass is a measure how much stuff (or matter) the object is made of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e find mass by weighing the objec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2"/>
          <a:stretch/>
        </p:blipFill>
        <p:spPr>
          <a:xfrm>
            <a:off x="3352680" y="4267080"/>
            <a:ext cx="2895840" cy="2413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What is the Gram?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6476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am is used to measure____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is a measure how much _____ (or matter) the object is made of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find mass by _____the objec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2"/>
          <a:stretch/>
        </p:blipFill>
        <p:spPr>
          <a:xfrm>
            <a:off x="3276720" y="4267080"/>
            <a:ext cx="2895480" cy="241308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6934320" y="3200400"/>
            <a:ext cx="1981080" cy="3505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7086600" y="3733920"/>
            <a:ext cx="16765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ghing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ff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3"/>
          <a:stretch/>
        </p:blipFill>
        <p:spPr>
          <a:xfrm>
            <a:off x="990720" y="990720"/>
            <a:ext cx="7772400" cy="426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Topic:  Metric System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ctive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 will know how the metric system is based on powers of 1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 will understand the units of length, volume, and mas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 will learn how to convert using the metric system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The Liter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 liter is used to measure Volum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olume is how much space an object uses up</a:t>
            </a: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2"/>
          <a:stretch/>
        </p:blipFill>
        <p:spPr>
          <a:xfrm>
            <a:off x="2362320" y="3886200"/>
            <a:ext cx="261432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What is a Liter?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iter is used to measure______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me is how much _____ an object uses up</a:t>
            </a: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96" name="" descr=""/>
          <p:cNvPicPr/>
          <p:nvPr/>
        </p:nvPicPr>
        <p:blipFill>
          <a:blip r:embed="rId2"/>
          <a:stretch/>
        </p:blipFill>
        <p:spPr>
          <a:xfrm>
            <a:off x="2362320" y="3886200"/>
            <a:ext cx="2614320" cy="2971800"/>
          </a:xfrm>
          <a:prstGeom prst="rect">
            <a:avLst/>
          </a:prstGeom>
          <a:ln w="0">
            <a:noFill/>
          </a:ln>
        </p:spPr>
      </p:pic>
      <p:sp>
        <p:nvSpPr>
          <p:cNvPr id="797" name=""/>
          <p:cNvSpPr/>
          <p:nvPr/>
        </p:nvSpPr>
        <p:spPr>
          <a:xfrm>
            <a:off x="6477120" y="3048120"/>
            <a:ext cx="2133360" cy="3657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6629400" y="3657600"/>
            <a:ext cx="16765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eighing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ter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uff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99" name="" descr=""/>
          <p:cNvPicPr/>
          <p:nvPr/>
        </p:nvPicPr>
        <p:blipFill>
          <a:blip r:embed="rId3"/>
          <a:stretch/>
        </p:blipFill>
        <p:spPr>
          <a:xfrm>
            <a:off x="1219320" y="1295280"/>
            <a:ext cx="7772400" cy="427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0" name=""/>
          <p:cNvGraphicFramePr/>
          <p:nvPr/>
        </p:nvGraphicFramePr>
        <p:xfrm>
          <a:off x="1143000" y="228600"/>
          <a:ext cx="3825720" cy="6496200"/>
        </p:xfrm>
        <a:graphic>
          <a:graphicData uri="http://schemas.openxmlformats.org/drawingml/2006/table">
            <a:tbl>
              <a:tblPr/>
              <a:tblGrid>
                <a:gridCol w="2054160"/>
                <a:gridCol w="1771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Rockwell Extra Bold"/>
                          <a:ea typeface="Times New Roman"/>
                        </a:rPr>
                        <a:t>Prefix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Rockwell Extra Bold"/>
                          <a:ea typeface="Times New Roman"/>
                        </a:rPr>
                        <a:t>Number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Perpetua"/>
                          <a:ea typeface="Times New Roman"/>
                        </a:rPr>
                        <a:t>Kilo-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1000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Hecto-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100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Decka-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10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Perpetua"/>
                          <a:ea typeface="Times New Roman"/>
                        </a:rPr>
                        <a:t>Meter, Gram, Lite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Deci-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1/10 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or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0.1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Perpetua"/>
                          <a:ea typeface="Times New Roman"/>
                        </a:rPr>
                        <a:t>Centi-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1/100 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or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0.01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Perpetua"/>
                          <a:ea typeface="Times New Roman"/>
                        </a:rPr>
                        <a:t>Milli-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1/1000 </a:t>
                      </a:r>
                      <a:r>
                        <a:rPr b="0" i="1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or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0.001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1" name=""/>
          <p:cNvSpPr/>
          <p:nvPr/>
        </p:nvSpPr>
        <p:spPr>
          <a:xfrm>
            <a:off x="685800" y="598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410080" y="990720"/>
            <a:ext cx="3276720" cy="32004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Notice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each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it is 10 time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rger or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 times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maller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9" dur="1000" fill="hold"/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1000" fill="hold"/>
                                        <p:tgtEl>
                                          <p:spTgt spid="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" dur="1000" fill="hold"/>
                                        <p:tgtEl>
                                          <p:spTgt spid="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5" dur="1000" fill="hold"/>
                                        <p:tgtEl>
                                          <p:spTgt spid="8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7" dur="1000" fill="hold"/>
                                        <p:tgtEl>
                                          <p:spTgt spid="8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 Black"/>
              </a:rPr>
              <a:t>Metric Step Ladder</a:t>
            </a:r>
            <a:endParaRPr b="0" lang="en-US" sz="28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05" name="" descr=""/>
          <p:cNvPicPr/>
          <p:nvPr/>
        </p:nvPicPr>
        <p:blipFill>
          <a:blip r:embed="rId2"/>
          <a:stretch/>
        </p:blipFill>
        <p:spPr>
          <a:xfrm>
            <a:off x="-304920" y="1371600"/>
            <a:ext cx="9829800" cy="4876920"/>
          </a:xfrm>
          <a:prstGeom prst="rect">
            <a:avLst/>
          </a:prstGeom>
          <a:ln w="0">
            <a:noFill/>
          </a:ln>
        </p:spPr>
      </p:pic>
      <p:sp>
        <p:nvSpPr>
          <p:cNvPr id="806" name=""/>
          <p:cNvSpPr/>
          <p:nvPr/>
        </p:nvSpPr>
        <p:spPr>
          <a:xfrm>
            <a:off x="4114800" y="2895480"/>
            <a:ext cx="838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Unit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r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ength: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Your house is 8 meters tall, how many millimeters tall is it?</a:t>
            </a:r>
            <a:endParaRPr b="0" lang="en-US" sz="2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09" name="" descr=""/>
          <p:cNvPicPr/>
          <p:nvPr/>
        </p:nvPicPr>
        <p:blipFill>
          <a:blip r:embed="rId2"/>
          <a:stretch/>
        </p:blipFill>
        <p:spPr>
          <a:xfrm>
            <a:off x="-304920" y="1523880"/>
            <a:ext cx="9829800" cy="4876920"/>
          </a:xfrm>
          <a:prstGeom prst="rect">
            <a:avLst/>
          </a:prstGeom>
          <a:ln w="0">
            <a:noFill/>
          </a:ln>
        </p:spPr>
      </p:pic>
      <p:sp>
        <p:nvSpPr>
          <p:cNvPr id="810" name=""/>
          <p:cNvSpPr/>
          <p:nvPr/>
        </p:nvSpPr>
        <p:spPr>
          <a:xfrm>
            <a:off x="4114800" y="2895480"/>
            <a:ext cx="838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Unit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r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038480" y="2133720"/>
            <a:ext cx="9907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238880" y="3581280"/>
            <a:ext cx="9907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,00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13" name="" descr=""/>
          <p:cNvPicPr/>
          <p:nvPr/>
        </p:nvPicPr>
        <p:blipFill>
          <a:blip r:embed="rId3"/>
          <a:stretch/>
        </p:blipFill>
        <p:spPr>
          <a:xfrm rot="1608600">
            <a:off x="5257440" y="3047760"/>
            <a:ext cx="1828800" cy="555480"/>
          </a:xfrm>
          <a:prstGeom prst="rect">
            <a:avLst/>
          </a:prstGeom>
          <a:ln w="0">
            <a:noFill/>
          </a:ln>
        </p:spPr>
      </p:pic>
      <p:sp>
        <p:nvSpPr>
          <p:cNvPr id="814" name=""/>
          <p:cNvSpPr/>
          <p:nvPr/>
        </p:nvSpPr>
        <p:spPr>
          <a:xfrm>
            <a:off x="304920" y="3657600"/>
            <a:ext cx="281916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1 meter = 1000 millimeter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-228600" y="6400800"/>
            <a:ext cx="96012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419720" y="6400800"/>
            <a:ext cx="22860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809880" y="5867280"/>
            <a:ext cx="26672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80000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952880" y="5867280"/>
            <a:ext cx="13716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4495680" y="655308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4572000" y="6553080"/>
            <a:ext cx="1208160" cy="217440"/>
          </a:xfrm>
          <a:custGeom>
            <a:avLst/>
            <a:gdLst/>
            <a:ahLst/>
            <a:rect l="l" t="t" r="r" b="b"/>
            <a:pathLst>
              <a:path w="761" h="137">
                <a:moveTo>
                  <a:pt x="0" y="54"/>
                </a:moveTo>
                <a:cubicBezTo>
                  <a:pt x="37" y="110"/>
                  <a:pt x="16" y="91"/>
                  <a:pt x="56" y="118"/>
                </a:cubicBezTo>
                <a:cubicBezTo>
                  <a:pt x="91" y="115"/>
                  <a:pt x="135" y="127"/>
                  <a:pt x="160" y="102"/>
                </a:cubicBezTo>
                <a:cubicBezTo>
                  <a:pt x="184" y="78"/>
                  <a:pt x="205" y="39"/>
                  <a:pt x="216" y="6"/>
                </a:cubicBezTo>
                <a:cubicBezTo>
                  <a:pt x="256" y="33"/>
                  <a:pt x="235" y="14"/>
                  <a:pt x="272" y="70"/>
                </a:cubicBezTo>
                <a:cubicBezTo>
                  <a:pt x="277" y="78"/>
                  <a:pt x="279" y="91"/>
                  <a:pt x="288" y="94"/>
                </a:cubicBezTo>
                <a:cubicBezTo>
                  <a:pt x="312" y="102"/>
                  <a:pt x="336" y="110"/>
                  <a:pt x="360" y="118"/>
                </a:cubicBezTo>
                <a:cubicBezTo>
                  <a:pt x="368" y="121"/>
                  <a:pt x="384" y="126"/>
                  <a:pt x="384" y="126"/>
                </a:cubicBezTo>
                <a:cubicBezTo>
                  <a:pt x="408" y="123"/>
                  <a:pt x="433" y="126"/>
                  <a:pt x="456" y="118"/>
                </a:cubicBezTo>
                <a:cubicBezTo>
                  <a:pt x="475" y="111"/>
                  <a:pt x="490" y="38"/>
                  <a:pt x="496" y="14"/>
                </a:cubicBezTo>
                <a:cubicBezTo>
                  <a:pt x="528" y="61"/>
                  <a:pt x="548" y="87"/>
                  <a:pt x="600" y="110"/>
                </a:cubicBezTo>
                <a:cubicBezTo>
                  <a:pt x="615" y="117"/>
                  <a:pt x="632" y="121"/>
                  <a:pt x="648" y="126"/>
                </a:cubicBezTo>
                <a:cubicBezTo>
                  <a:pt x="656" y="129"/>
                  <a:pt x="672" y="134"/>
                  <a:pt x="672" y="134"/>
                </a:cubicBezTo>
                <a:cubicBezTo>
                  <a:pt x="731" y="122"/>
                  <a:pt x="704" y="137"/>
                  <a:pt x="744" y="78"/>
                </a:cubicBezTo>
                <a:cubicBezTo>
                  <a:pt x="755" y="62"/>
                  <a:pt x="752" y="38"/>
                  <a:pt x="752" y="38"/>
                </a:cubicBezTo>
                <a:cubicBezTo>
                  <a:pt x="761" y="0"/>
                  <a:pt x="739" y="32"/>
                  <a:pt x="752" y="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5715000" y="655308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248520" y="6019920"/>
            <a:ext cx="266688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limeters(mm) tal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3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8" dur="500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2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-228600" y="6095880"/>
            <a:ext cx="96012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ength: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Your bike is 2 meters in length, how many centimeters long is it?</a:t>
            </a:r>
            <a:endParaRPr b="0" lang="en-US" sz="2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26" name="" descr=""/>
          <p:cNvPicPr/>
          <p:nvPr/>
        </p:nvPicPr>
        <p:blipFill>
          <a:blip r:embed="rId2"/>
          <a:stretch/>
        </p:blipFill>
        <p:spPr>
          <a:xfrm>
            <a:off x="-304920" y="1371600"/>
            <a:ext cx="9829800" cy="4876920"/>
          </a:xfrm>
          <a:prstGeom prst="rect">
            <a:avLst/>
          </a:prstGeom>
          <a:ln w="0">
            <a:noFill/>
          </a:ln>
        </p:spPr>
      </p:pic>
      <p:sp>
        <p:nvSpPr>
          <p:cNvPr id="827" name=""/>
          <p:cNvSpPr/>
          <p:nvPr/>
        </p:nvSpPr>
        <p:spPr>
          <a:xfrm>
            <a:off x="4114800" y="2895480"/>
            <a:ext cx="838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Unit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r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114800" y="1981080"/>
            <a:ext cx="9907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2.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248520" y="3124080"/>
            <a:ext cx="91440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200.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3"/>
          <a:stretch/>
        </p:blipFill>
        <p:spPr>
          <a:xfrm rot="1649400">
            <a:off x="5079600" y="2925720"/>
            <a:ext cx="1143000" cy="52092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304920" y="3657600"/>
            <a:ext cx="28954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1 meter = 100 centimeter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4419720" y="6400800"/>
            <a:ext cx="22860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581280" y="5867280"/>
            <a:ext cx="26672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4876920" y="5943600"/>
            <a:ext cx="1371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4495680" y="655308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867280" y="6019920"/>
            <a:ext cx="3505320" cy="5331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imeters(cm) long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495680" y="6553080"/>
            <a:ext cx="919440" cy="216000"/>
          </a:xfrm>
          <a:custGeom>
            <a:avLst/>
            <a:gdLst/>
            <a:ahLst/>
            <a:rect l="l" t="t" r="r" b="b"/>
            <a:pathLst>
              <a:path w="579" h="136">
                <a:moveTo>
                  <a:pt x="0" y="62"/>
                </a:moveTo>
                <a:cubicBezTo>
                  <a:pt x="7" y="67"/>
                  <a:pt x="14" y="70"/>
                  <a:pt x="20" y="76"/>
                </a:cubicBezTo>
                <a:cubicBezTo>
                  <a:pt x="26" y="82"/>
                  <a:pt x="27" y="92"/>
                  <a:pt x="34" y="96"/>
                </a:cubicBezTo>
                <a:cubicBezTo>
                  <a:pt x="46" y="104"/>
                  <a:pt x="75" y="110"/>
                  <a:pt x="75" y="110"/>
                </a:cubicBezTo>
                <a:cubicBezTo>
                  <a:pt x="180" y="105"/>
                  <a:pt x="228" y="132"/>
                  <a:pt x="260" y="42"/>
                </a:cubicBezTo>
                <a:cubicBezTo>
                  <a:pt x="264" y="48"/>
                  <a:pt x="304" y="94"/>
                  <a:pt x="308" y="96"/>
                </a:cubicBezTo>
                <a:cubicBezTo>
                  <a:pt x="330" y="110"/>
                  <a:pt x="370" y="117"/>
                  <a:pt x="397" y="124"/>
                </a:cubicBezTo>
                <a:cubicBezTo>
                  <a:pt x="437" y="121"/>
                  <a:pt x="493" y="136"/>
                  <a:pt x="514" y="103"/>
                </a:cubicBezTo>
                <a:cubicBezTo>
                  <a:pt x="579" y="0"/>
                  <a:pt x="508" y="85"/>
                  <a:pt x="534" y="5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5334120" y="6553080"/>
            <a:ext cx="7596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2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ass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A paperclip weighs 7 grams, how many milligrams does it weigh?</a:t>
            </a:r>
            <a:endParaRPr b="0" lang="en-US" sz="2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41" name="" descr=""/>
          <p:cNvPicPr/>
          <p:nvPr/>
        </p:nvPicPr>
        <p:blipFill>
          <a:blip r:embed="rId2"/>
          <a:stretch/>
        </p:blipFill>
        <p:spPr>
          <a:xfrm>
            <a:off x="-304920" y="1371600"/>
            <a:ext cx="9829800" cy="4876920"/>
          </a:xfrm>
          <a:prstGeom prst="rect">
            <a:avLst/>
          </a:prstGeom>
          <a:ln w="0">
            <a:noFill/>
          </a:ln>
        </p:spPr>
      </p:pic>
      <p:sp>
        <p:nvSpPr>
          <p:cNvPr id="842" name=""/>
          <p:cNvSpPr/>
          <p:nvPr/>
        </p:nvSpPr>
        <p:spPr>
          <a:xfrm>
            <a:off x="4114800" y="2895480"/>
            <a:ext cx="838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Unit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r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4114800" y="1981080"/>
            <a:ext cx="9907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315200" y="3581280"/>
            <a:ext cx="91440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7,00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45" name="" descr=""/>
          <p:cNvPicPr/>
          <p:nvPr/>
        </p:nvPicPr>
        <p:blipFill>
          <a:blip r:embed="rId3"/>
          <a:stretch/>
        </p:blipFill>
        <p:spPr>
          <a:xfrm rot="1649400">
            <a:off x="5189040" y="2935080"/>
            <a:ext cx="1967040" cy="588960"/>
          </a:xfrm>
          <a:prstGeom prst="rect">
            <a:avLst/>
          </a:prstGeom>
          <a:ln w="0">
            <a:noFill/>
          </a:ln>
        </p:spPr>
      </p:pic>
      <p:sp>
        <p:nvSpPr>
          <p:cNvPr id="846" name=""/>
          <p:cNvSpPr/>
          <p:nvPr/>
        </p:nvSpPr>
        <p:spPr>
          <a:xfrm>
            <a:off x="-228600" y="6248520"/>
            <a:ext cx="960120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4419720" y="6172200"/>
            <a:ext cx="22860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809880" y="5638680"/>
            <a:ext cx="26672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0000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952880" y="5638680"/>
            <a:ext cx="13716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4495680" y="632448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4572000" y="6324480"/>
            <a:ext cx="1208160" cy="217440"/>
          </a:xfrm>
          <a:custGeom>
            <a:avLst/>
            <a:gdLst/>
            <a:ahLst/>
            <a:rect l="l" t="t" r="r" b="b"/>
            <a:pathLst>
              <a:path w="761" h="137">
                <a:moveTo>
                  <a:pt x="0" y="54"/>
                </a:moveTo>
                <a:cubicBezTo>
                  <a:pt x="37" y="110"/>
                  <a:pt x="16" y="91"/>
                  <a:pt x="56" y="118"/>
                </a:cubicBezTo>
                <a:cubicBezTo>
                  <a:pt x="91" y="115"/>
                  <a:pt x="135" y="127"/>
                  <a:pt x="160" y="102"/>
                </a:cubicBezTo>
                <a:cubicBezTo>
                  <a:pt x="184" y="78"/>
                  <a:pt x="205" y="39"/>
                  <a:pt x="216" y="6"/>
                </a:cubicBezTo>
                <a:cubicBezTo>
                  <a:pt x="256" y="33"/>
                  <a:pt x="235" y="14"/>
                  <a:pt x="272" y="70"/>
                </a:cubicBezTo>
                <a:cubicBezTo>
                  <a:pt x="277" y="78"/>
                  <a:pt x="279" y="91"/>
                  <a:pt x="288" y="94"/>
                </a:cubicBezTo>
                <a:cubicBezTo>
                  <a:pt x="312" y="102"/>
                  <a:pt x="336" y="110"/>
                  <a:pt x="360" y="118"/>
                </a:cubicBezTo>
                <a:cubicBezTo>
                  <a:pt x="368" y="121"/>
                  <a:pt x="384" y="126"/>
                  <a:pt x="384" y="126"/>
                </a:cubicBezTo>
                <a:cubicBezTo>
                  <a:pt x="408" y="123"/>
                  <a:pt x="433" y="126"/>
                  <a:pt x="456" y="118"/>
                </a:cubicBezTo>
                <a:cubicBezTo>
                  <a:pt x="475" y="111"/>
                  <a:pt x="490" y="38"/>
                  <a:pt x="496" y="14"/>
                </a:cubicBezTo>
                <a:cubicBezTo>
                  <a:pt x="528" y="61"/>
                  <a:pt x="548" y="87"/>
                  <a:pt x="600" y="110"/>
                </a:cubicBezTo>
                <a:cubicBezTo>
                  <a:pt x="615" y="117"/>
                  <a:pt x="632" y="121"/>
                  <a:pt x="648" y="126"/>
                </a:cubicBezTo>
                <a:cubicBezTo>
                  <a:pt x="656" y="129"/>
                  <a:pt x="672" y="134"/>
                  <a:pt x="672" y="134"/>
                </a:cubicBezTo>
                <a:cubicBezTo>
                  <a:pt x="731" y="122"/>
                  <a:pt x="704" y="137"/>
                  <a:pt x="744" y="78"/>
                </a:cubicBezTo>
                <a:cubicBezTo>
                  <a:pt x="755" y="62"/>
                  <a:pt x="752" y="38"/>
                  <a:pt x="752" y="38"/>
                </a:cubicBezTo>
                <a:cubicBezTo>
                  <a:pt x="761" y="0"/>
                  <a:pt x="739" y="32"/>
                  <a:pt x="752" y="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5715000" y="632448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6477120" y="5791320"/>
            <a:ext cx="213336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ligram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3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4" dur="500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-152280" y="6172200"/>
            <a:ext cx="96012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Volum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For breakfast, you drank 350 milliliters of orange juice, how many centiliters did you drink?</a:t>
            </a:r>
            <a:endParaRPr b="0" lang="en-US" sz="2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57" name="" descr=""/>
          <p:cNvPicPr/>
          <p:nvPr/>
        </p:nvPicPr>
        <p:blipFill>
          <a:blip r:embed="rId2"/>
          <a:stretch/>
        </p:blipFill>
        <p:spPr>
          <a:xfrm>
            <a:off x="-304920" y="1371600"/>
            <a:ext cx="9829800" cy="4876920"/>
          </a:xfrm>
          <a:prstGeom prst="rect">
            <a:avLst/>
          </a:prstGeom>
          <a:ln w="0">
            <a:noFill/>
          </a:ln>
        </p:spPr>
      </p:pic>
      <p:sp>
        <p:nvSpPr>
          <p:cNvPr id="858" name=""/>
          <p:cNvSpPr/>
          <p:nvPr/>
        </p:nvSpPr>
        <p:spPr>
          <a:xfrm>
            <a:off x="4114800" y="2895480"/>
            <a:ext cx="838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Unit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r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6172200" y="3124080"/>
            <a:ext cx="9907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35.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7315200" y="3581280"/>
            <a:ext cx="91440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350.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4800600" y="6248520"/>
            <a:ext cx="22860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809880" y="5715000"/>
            <a:ext cx="26672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50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6095880" y="5791320"/>
            <a:ext cx="1371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5410080" y="640080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5791320" y="6400800"/>
            <a:ext cx="7596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486400" y="6477120"/>
            <a:ext cx="380880" cy="152280"/>
          </a:xfrm>
          <a:custGeom>
            <a:avLst/>
            <a:gdLst/>
            <a:ahLst/>
            <a:rect l="l" t="t" r="r" b="b"/>
            <a:pathLst>
              <a:path w="335" h="112">
                <a:moveTo>
                  <a:pt x="335" y="24"/>
                </a:moveTo>
                <a:cubicBezTo>
                  <a:pt x="315" y="37"/>
                  <a:pt x="290" y="60"/>
                  <a:pt x="268" y="67"/>
                </a:cubicBezTo>
                <a:cubicBezTo>
                  <a:pt x="238" y="112"/>
                  <a:pt x="177" y="88"/>
                  <a:pt x="128" y="85"/>
                </a:cubicBezTo>
                <a:cubicBezTo>
                  <a:pt x="98" y="81"/>
                  <a:pt x="72" y="76"/>
                  <a:pt x="43" y="67"/>
                </a:cubicBezTo>
                <a:cubicBezTo>
                  <a:pt x="27" y="50"/>
                  <a:pt x="28" y="38"/>
                  <a:pt x="7" y="24"/>
                </a:cubicBezTo>
                <a:cubicBezTo>
                  <a:pt x="0" y="4"/>
                  <a:pt x="1" y="12"/>
                  <a:pt x="1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172200" y="5867280"/>
            <a:ext cx="28195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iliters(cL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2" dur="3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6" dur="500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" dur="2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ength:</a:t>
            </a:r>
            <a:br>
              <a:rPr sz="2400"/>
            </a:b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You drove 6500 meters on your way to school this morning, how many kilometers did you drive?</a:t>
            </a:r>
            <a:r>
              <a:rPr b="0" lang="en-US" sz="2400" spc="-1" strike="noStrike">
                <a:solidFill>
                  <a:srgbClr val="dfd293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70" name="" descr=""/>
          <p:cNvPicPr/>
          <p:nvPr/>
        </p:nvPicPr>
        <p:blipFill>
          <a:blip r:embed="rId2"/>
          <a:stretch/>
        </p:blipFill>
        <p:spPr>
          <a:xfrm>
            <a:off x="-304920" y="1219320"/>
            <a:ext cx="9829800" cy="5029200"/>
          </a:xfrm>
          <a:prstGeom prst="rect">
            <a:avLst/>
          </a:prstGeom>
          <a:ln w="0">
            <a:noFill/>
          </a:ln>
        </p:spPr>
      </p:pic>
      <p:sp>
        <p:nvSpPr>
          <p:cNvPr id="871" name=""/>
          <p:cNvSpPr/>
          <p:nvPr/>
        </p:nvSpPr>
        <p:spPr>
          <a:xfrm>
            <a:off x="4114800" y="2895480"/>
            <a:ext cx="838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Unit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r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4114800" y="1981080"/>
            <a:ext cx="9907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6500.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8080" y="838080"/>
            <a:ext cx="91440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6.5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74" name="" descr=""/>
          <p:cNvPicPr/>
          <p:nvPr/>
        </p:nvPicPr>
        <p:blipFill>
          <a:blip r:embed="rId3"/>
          <a:stretch/>
        </p:blipFill>
        <p:spPr>
          <a:xfrm rot="12321000">
            <a:off x="1828800" y="1447200"/>
            <a:ext cx="1773360" cy="554040"/>
          </a:xfrm>
          <a:prstGeom prst="rect">
            <a:avLst/>
          </a:prstGeom>
          <a:ln w="0">
            <a:noFill/>
          </a:ln>
        </p:spPr>
      </p:pic>
      <p:sp>
        <p:nvSpPr>
          <p:cNvPr id="875" name=""/>
          <p:cNvSpPr/>
          <p:nvPr/>
        </p:nvSpPr>
        <p:spPr>
          <a:xfrm>
            <a:off x="304920" y="3657600"/>
            <a:ext cx="281916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1 kilometer = 1000 meter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-304920" y="6172200"/>
            <a:ext cx="96012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724280" y="6019920"/>
            <a:ext cx="22860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4114800" y="5486400"/>
            <a:ext cx="26668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5000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7391520" y="5486400"/>
            <a:ext cx="1371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V="1">
            <a:off x="4800600" y="617220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4876920" y="6172200"/>
            <a:ext cx="1207800" cy="217440"/>
          </a:xfrm>
          <a:custGeom>
            <a:avLst/>
            <a:gdLst/>
            <a:ahLst/>
            <a:rect l="l" t="t" r="r" b="b"/>
            <a:pathLst>
              <a:path w="761" h="137">
                <a:moveTo>
                  <a:pt x="0" y="54"/>
                </a:moveTo>
                <a:cubicBezTo>
                  <a:pt x="37" y="110"/>
                  <a:pt x="16" y="91"/>
                  <a:pt x="56" y="118"/>
                </a:cubicBezTo>
                <a:cubicBezTo>
                  <a:pt x="91" y="115"/>
                  <a:pt x="135" y="127"/>
                  <a:pt x="160" y="102"/>
                </a:cubicBezTo>
                <a:cubicBezTo>
                  <a:pt x="184" y="78"/>
                  <a:pt x="205" y="39"/>
                  <a:pt x="216" y="6"/>
                </a:cubicBezTo>
                <a:cubicBezTo>
                  <a:pt x="256" y="33"/>
                  <a:pt x="235" y="14"/>
                  <a:pt x="272" y="70"/>
                </a:cubicBezTo>
                <a:cubicBezTo>
                  <a:pt x="277" y="78"/>
                  <a:pt x="279" y="91"/>
                  <a:pt x="288" y="94"/>
                </a:cubicBezTo>
                <a:cubicBezTo>
                  <a:pt x="312" y="102"/>
                  <a:pt x="336" y="110"/>
                  <a:pt x="360" y="118"/>
                </a:cubicBezTo>
                <a:cubicBezTo>
                  <a:pt x="368" y="121"/>
                  <a:pt x="384" y="126"/>
                  <a:pt x="384" y="126"/>
                </a:cubicBezTo>
                <a:cubicBezTo>
                  <a:pt x="408" y="123"/>
                  <a:pt x="433" y="126"/>
                  <a:pt x="456" y="118"/>
                </a:cubicBezTo>
                <a:cubicBezTo>
                  <a:pt x="475" y="111"/>
                  <a:pt x="490" y="38"/>
                  <a:pt x="496" y="14"/>
                </a:cubicBezTo>
                <a:cubicBezTo>
                  <a:pt x="528" y="61"/>
                  <a:pt x="548" y="87"/>
                  <a:pt x="600" y="110"/>
                </a:cubicBezTo>
                <a:cubicBezTo>
                  <a:pt x="615" y="117"/>
                  <a:pt x="632" y="121"/>
                  <a:pt x="648" y="126"/>
                </a:cubicBezTo>
                <a:cubicBezTo>
                  <a:pt x="656" y="129"/>
                  <a:pt x="672" y="134"/>
                  <a:pt x="672" y="134"/>
                </a:cubicBezTo>
                <a:cubicBezTo>
                  <a:pt x="731" y="122"/>
                  <a:pt x="704" y="137"/>
                  <a:pt x="744" y="78"/>
                </a:cubicBezTo>
                <a:cubicBezTo>
                  <a:pt x="755" y="62"/>
                  <a:pt x="752" y="38"/>
                  <a:pt x="752" y="38"/>
                </a:cubicBezTo>
                <a:cubicBezTo>
                  <a:pt x="761" y="0"/>
                  <a:pt x="739" y="32"/>
                  <a:pt x="752" y="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6019920" y="6172200"/>
            <a:ext cx="7596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5257800" y="5638680"/>
            <a:ext cx="15238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629400" y="5715000"/>
            <a:ext cx="23623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lometers(km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4" dur="2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8" dur="500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2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980720" y="15228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ss: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Your backpack weighs 7 kilograms, how many grams does it weigh?</a:t>
            </a:r>
            <a:endParaRPr b="0" lang="en-US" sz="2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-304920" y="1371600"/>
            <a:ext cx="9829800" cy="4876920"/>
          </a:xfrm>
          <a:prstGeom prst="rect">
            <a:avLst/>
          </a:prstGeom>
          <a:ln w="0">
            <a:noFill/>
          </a:ln>
        </p:spPr>
      </p:pic>
      <p:sp>
        <p:nvSpPr>
          <p:cNvPr id="888" name=""/>
          <p:cNvSpPr/>
          <p:nvPr/>
        </p:nvSpPr>
        <p:spPr>
          <a:xfrm>
            <a:off x="4114800" y="2895480"/>
            <a:ext cx="838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Unit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r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4114800" y="1981080"/>
            <a:ext cx="9907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7000.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838080" y="838080"/>
            <a:ext cx="91440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7.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91" name="" descr=""/>
          <p:cNvPicPr/>
          <p:nvPr/>
        </p:nvPicPr>
        <p:blipFill>
          <a:blip r:embed="rId3"/>
          <a:stretch/>
        </p:blipFill>
        <p:spPr>
          <a:xfrm rot="1504200">
            <a:off x="2382480" y="1595520"/>
            <a:ext cx="1219320" cy="554040"/>
          </a:xfrm>
          <a:prstGeom prst="rect">
            <a:avLst/>
          </a:prstGeom>
          <a:ln w="0">
            <a:noFill/>
          </a:ln>
        </p:spPr>
      </p:pic>
      <p:sp>
        <p:nvSpPr>
          <p:cNvPr id="892" name=""/>
          <p:cNvSpPr/>
          <p:nvPr/>
        </p:nvSpPr>
        <p:spPr>
          <a:xfrm>
            <a:off x="-228600" y="6172200"/>
            <a:ext cx="96012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495680" y="6248520"/>
            <a:ext cx="22860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3886200" y="5715000"/>
            <a:ext cx="26668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0000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029200" y="5715000"/>
            <a:ext cx="1371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4572000" y="640080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4648320" y="6400800"/>
            <a:ext cx="1207800" cy="217440"/>
          </a:xfrm>
          <a:custGeom>
            <a:avLst/>
            <a:gdLst/>
            <a:ahLst/>
            <a:rect l="l" t="t" r="r" b="b"/>
            <a:pathLst>
              <a:path w="761" h="137">
                <a:moveTo>
                  <a:pt x="0" y="54"/>
                </a:moveTo>
                <a:cubicBezTo>
                  <a:pt x="37" y="110"/>
                  <a:pt x="16" y="91"/>
                  <a:pt x="56" y="118"/>
                </a:cubicBezTo>
                <a:cubicBezTo>
                  <a:pt x="91" y="115"/>
                  <a:pt x="135" y="127"/>
                  <a:pt x="160" y="102"/>
                </a:cubicBezTo>
                <a:cubicBezTo>
                  <a:pt x="184" y="78"/>
                  <a:pt x="205" y="39"/>
                  <a:pt x="216" y="6"/>
                </a:cubicBezTo>
                <a:cubicBezTo>
                  <a:pt x="256" y="33"/>
                  <a:pt x="235" y="14"/>
                  <a:pt x="272" y="70"/>
                </a:cubicBezTo>
                <a:cubicBezTo>
                  <a:pt x="277" y="78"/>
                  <a:pt x="279" y="91"/>
                  <a:pt x="288" y="94"/>
                </a:cubicBezTo>
                <a:cubicBezTo>
                  <a:pt x="312" y="102"/>
                  <a:pt x="336" y="110"/>
                  <a:pt x="360" y="118"/>
                </a:cubicBezTo>
                <a:cubicBezTo>
                  <a:pt x="368" y="121"/>
                  <a:pt x="384" y="126"/>
                  <a:pt x="384" y="126"/>
                </a:cubicBezTo>
                <a:cubicBezTo>
                  <a:pt x="408" y="123"/>
                  <a:pt x="433" y="126"/>
                  <a:pt x="456" y="118"/>
                </a:cubicBezTo>
                <a:cubicBezTo>
                  <a:pt x="475" y="111"/>
                  <a:pt x="490" y="38"/>
                  <a:pt x="496" y="14"/>
                </a:cubicBezTo>
                <a:cubicBezTo>
                  <a:pt x="528" y="61"/>
                  <a:pt x="548" y="87"/>
                  <a:pt x="600" y="110"/>
                </a:cubicBezTo>
                <a:cubicBezTo>
                  <a:pt x="615" y="117"/>
                  <a:pt x="632" y="121"/>
                  <a:pt x="648" y="126"/>
                </a:cubicBezTo>
                <a:cubicBezTo>
                  <a:pt x="656" y="129"/>
                  <a:pt x="672" y="134"/>
                  <a:pt x="672" y="134"/>
                </a:cubicBezTo>
                <a:cubicBezTo>
                  <a:pt x="731" y="122"/>
                  <a:pt x="704" y="137"/>
                  <a:pt x="744" y="78"/>
                </a:cubicBezTo>
                <a:cubicBezTo>
                  <a:pt x="755" y="62"/>
                  <a:pt x="752" y="38"/>
                  <a:pt x="752" y="38"/>
                </a:cubicBezTo>
                <a:cubicBezTo>
                  <a:pt x="761" y="0"/>
                  <a:pt x="739" y="32"/>
                  <a:pt x="752" y="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5791320" y="6400800"/>
            <a:ext cx="7596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6477120" y="5791320"/>
            <a:ext cx="205740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ms(g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3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3" dur="500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5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" dur="2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The Metric System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 measurement 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system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based on units or powers of 1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ter measures lengt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ram measures mas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iter measures volume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olume: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You drank 70 milliliters of water, how many centiliters did you drink?</a:t>
            </a:r>
            <a:endParaRPr b="0" lang="en-US" sz="2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02" name="" descr=""/>
          <p:cNvPicPr/>
          <p:nvPr/>
        </p:nvPicPr>
        <p:blipFill>
          <a:blip r:embed="rId2"/>
          <a:stretch/>
        </p:blipFill>
        <p:spPr>
          <a:xfrm>
            <a:off x="-304920" y="1371600"/>
            <a:ext cx="9829800" cy="4876920"/>
          </a:xfrm>
          <a:prstGeom prst="rect">
            <a:avLst/>
          </a:prstGeom>
          <a:ln w="0">
            <a:noFill/>
          </a:ln>
        </p:spPr>
      </p:pic>
      <p:sp>
        <p:nvSpPr>
          <p:cNvPr id="903" name=""/>
          <p:cNvSpPr/>
          <p:nvPr/>
        </p:nvSpPr>
        <p:spPr>
          <a:xfrm>
            <a:off x="4114800" y="2895480"/>
            <a:ext cx="838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Unit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r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7467480" y="3581280"/>
            <a:ext cx="60984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70.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6324480" y="3124080"/>
            <a:ext cx="60984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7.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 rot="12495000">
            <a:off x="6860520" y="3553920"/>
            <a:ext cx="609480" cy="289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838080" y="4191120"/>
            <a:ext cx="83059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Use the metric conversion ladd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100 centimeters (cm) = ____ meters (m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1 kilometer (km) = ____ meters (m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09" name="" descr=""/>
          <p:cNvPicPr/>
          <p:nvPr/>
        </p:nvPicPr>
        <p:blipFill>
          <a:blip r:embed="rId2"/>
          <a:stretch/>
        </p:blipFill>
        <p:spPr>
          <a:xfrm>
            <a:off x="685800" y="-34920"/>
            <a:ext cx="8077320" cy="4006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762120" y="426672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2000 milliLiters (mL) = _________ Liters (L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400 centigrams (cg) = __________ grams (g)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12" name="" descr=""/>
          <p:cNvPicPr/>
          <p:nvPr/>
        </p:nvPicPr>
        <p:blipFill>
          <a:blip r:embed="rId2"/>
          <a:stretch/>
        </p:blipFill>
        <p:spPr>
          <a:xfrm>
            <a:off x="304920" y="0"/>
            <a:ext cx="8458200" cy="4195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761760" y="4648320"/>
            <a:ext cx="838188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4.6 kilometers (km) = ___________ meters (m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12 centimeters (cm) = ___________ millimeters (mm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15" name="" descr=""/>
          <p:cNvPicPr/>
          <p:nvPr/>
        </p:nvPicPr>
        <p:blipFill>
          <a:blip r:embed="rId2"/>
          <a:stretch/>
        </p:blipFill>
        <p:spPr>
          <a:xfrm>
            <a:off x="-228600" y="0"/>
            <a:ext cx="9601200" cy="4419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9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  <p:sp>
        <p:nvSpPr>
          <p:cNvPr id="918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Summarize: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tric system is a measurement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system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based on units or powers of____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ter measures____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____measures mas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____measures volum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 km = _______mete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000 mm = ______mete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____cm = 1 met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7010280" y="2590920"/>
            <a:ext cx="1752840" cy="2666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7162920" y="2743200"/>
            <a:ext cx="14112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23" name="" descr=""/>
          <p:cNvPicPr/>
          <p:nvPr/>
        </p:nvPicPr>
        <p:blipFill>
          <a:blip r:embed="rId2"/>
          <a:stretch/>
        </p:blipFill>
        <p:spPr>
          <a:xfrm>
            <a:off x="990720" y="1066680"/>
            <a:ext cx="7772400" cy="427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Topic: Density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ctive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 will learn how to calculate volume by water displace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 will understand the concept of density gi en mass and volume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Volume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e use Volume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when we want to find the capacity of something (how much liquid is inside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Volume is measured is liter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28" name="" descr=""/>
          <p:cNvPicPr/>
          <p:nvPr/>
        </p:nvPicPr>
        <p:blipFill>
          <a:blip r:embed="rId2"/>
          <a:stretch/>
        </p:blipFill>
        <p:spPr>
          <a:xfrm>
            <a:off x="6248520" y="3809880"/>
            <a:ext cx="2614320" cy="2971800"/>
          </a:xfrm>
          <a:prstGeom prst="rect">
            <a:avLst/>
          </a:prstGeom>
          <a:ln w="0">
            <a:noFill/>
          </a:ln>
        </p:spPr>
      </p:pic>
      <p:pic>
        <p:nvPicPr>
          <p:cNvPr id="929" name="" descr=""/>
          <p:cNvPicPr/>
          <p:nvPr/>
        </p:nvPicPr>
        <p:blipFill>
          <a:blip r:embed="rId3"/>
          <a:stretch/>
        </p:blipFill>
        <p:spPr>
          <a:xfrm>
            <a:off x="762120" y="3809880"/>
            <a:ext cx="3124080" cy="2959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2 ways we find volume: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1371240" y="1295280"/>
            <a:ext cx="5181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r simple shapes, like cubes and spheres, we can calculate them through basic mat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r example, to find the volume of a cube we measure the (Length x Width x Height)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ut, we'll let math class teach you that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32" name="" descr=""/>
          <p:cNvPicPr/>
          <p:nvPr/>
        </p:nvPicPr>
        <p:blipFill>
          <a:blip r:embed="rId2"/>
          <a:stretch/>
        </p:blipFill>
        <p:spPr>
          <a:xfrm>
            <a:off x="6867360" y="3429000"/>
            <a:ext cx="1789200" cy="2057400"/>
          </a:xfrm>
          <a:prstGeom prst="rect">
            <a:avLst/>
          </a:prstGeom>
          <a:ln w="0">
            <a:noFill/>
          </a:ln>
        </p:spPr>
      </p:pic>
      <p:pic>
        <p:nvPicPr>
          <p:cNvPr id="933" name="" descr=""/>
          <p:cNvPicPr/>
          <p:nvPr/>
        </p:nvPicPr>
        <p:blipFill>
          <a:blip r:embed="rId3"/>
          <a:stretch/>
        </p:blipFill>
        <p:spPr>
          <a:xfrm>
            <a:off x="6400800" y="5537160"/>
            <a:ext cx="2209680" cy="1320840"/>
          </a:xfrm>
          <a:prstGeom prst="rect">
            <a:avLst/>
          </a:prstGeom>
          <a:ln w="0">
            <a:noFill/>
          </a:ln>
        </p:spPr>
      </p:pic>
      <p:pic>
        <p:nvPicPr>
          <p:cNvPr id="934" name="" descr=""/>
          <p:cNvPicPr/>
          <p:nvPr/>
        </p:nvPicPr>
        <p:blipFill>
          <a:blip r:embed="rId4"/>
          <a:stretch/>
        </p:blipFill>
        <p:spPr>
          <a:xfrm>
            <a:off x="6553080" y="1295280"/>
            <a:ext cx="2210040" cy="2098800"/>
          </a:xfrm>
          <a:prstGeom prst="rect">
            <a:avLst/>
          </a:prstGeom>
          <a:ln w="0">
            <a:noFill/>
          </a:ln>
        </p:spPr>
      </p:pic>
      <p:sp>
        <p:nvSpPr>
          <p:cNvPr id="935" name=""/>
          <p:cNvSpPr/>
          <p:nvPr/>
        </p:nvSpPr>
        <p:spPr>
          <a:xfrm flipH="1">
            <a:off x="7391160" y="3048120"/>
            <a:ext cx="6858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7010280" y="2133720"/>
            <a:ext cx="0" cy="685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 flipH="1" flipV="1">
            <a:off x="7009920" y="2819160"/>
            <a:ext cx="30492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2 ways we find volume: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86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f something has an irregular shape, how do we find the volume of it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other way we find volume is by displace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40" name="" descr=""/>
          <p:cNvPicPr/>
          <p:nvPr/>
        </p:nvPicPr>
        <p:blipFill>
          <a:blip r:embed="rId2"/>
          <a:stretch/>
        </p:blipFill>
        <p:spPr>
          <a:xfrm>
            <a:off x="5257800" y="1828800"/>
            <a:ext cx="3924360" cy="4210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81080" cy="2133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0" y="205740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       </a:t>
            </a: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The Meter Stick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2" name=""/>
          <p:cNvSpPr/>
          <p:nvPr/>
        </p:nvSpPr>
        <p:spPr>
          <a:xfrm rot="5095200">
            <a:off x="1825200" y="4651200"/>
            <a:ext cx="311040" cy="609480"/>
          </a:xfrm>
          <a:custGeom>
            <a:avLst/>
            <a:gdLst>
              <a:gd name="textAreaLeft" fmla="*/ 0 w 311040"/>
              <a:gd name="textAreaRight" fmla="*/ 112320 w 31104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0089"/>
                </a:lnTo>
                <a:cubicBezTo>
                  <a:pt x="10800" y="10989"/>
                  <a:pt x="16200" y="11889"/>
                  <a:pt x="21600" y="11889"/>
                </a:cubicBezTo>
                <a:cubicBezTo>
                  <a:pt x="16200" y="11889"/>
                  <a:pt x="10800" y="12789"/>
                  <a:pt x="10800" y="1368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5257800"/>
            <a:ext cx="28195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37-38 = 1 centime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With 10 millimeter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nsid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145000">
            <a:off x="5333400" y="2362320"/>
            <a:ext cx="533160" cy="4647960"/>
          </a:xfrm>
          <a:custGeom>
            <a:avLst/>
            <a:gdLst>
              <a:gd name="textAreaLeft" fmla="*/ 0 w 533160"/>
              <a:gd name="textAreaRight" fmla="*/ 192600 w 533160"/>
              <a:gd name="textAreaTop" fmla="*/ 120960 h 4647960"/>
              <a:gd name="textAreaBottom" fmla="*/ 4527000 h 464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48320" y="5029200"/>
            <a:ext cx="2743200" cy="13716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40-50 = 1 decime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With 10 centimeter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nsid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422800">
            <a:off x="990720" y="0"/>
            <a:ext cx="533160" cy="2651040"/>
          </a:xfrm>
          <a:custGeom>
            <a:avLst/>
            <a:gdLst>
              <a:gd name="textAreaLeft" fmla="*/ 0 w 533160"/>
              <a:gd name="textAreaRight" fmla="*/ 192600 w 533160"/>
              <a:gd name="textAreaTop" fmla="*/ 69120 h 2651040"/>
              <a:gd name="textAreaBottom" fmla="*/ 2581920 h 265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3880" y="1523880"/>
            <a:ext cx="266724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Here is one me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tick shrunken dow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Volume by Displacemen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86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et's say we want to find the volume of a rock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You can't exactly take out a ruler and measure it like you could a cube or triang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43" name="" descr=""/>
          <p:cNvPicPr/>
          <p:nvPr/>
        </p:nvPicPr>
        <p:blipFill>
          <a:blip r:embed="rId2"/>
          <a:stretch/>
        </p:blipFill>
        <p:spPr>
          <a:xfrm>
            <a:off x="5257800" y="1828800"/>
            <a:ext cx="3924360" cy="4210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Volume by Displacemen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Here's how you do it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You drop the rock into wat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bviously, the water level will ri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ut, by how much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amount it rises equals the volume of the rock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46" name="" descr=""/>
          <p:cNvPicPr/>
          <p:nvPr/>
        </p:nvPicPr>
        <p:blipFill>
          <a:blip r:embed="rId2"/>
          <a:stretch/>
        </p:blipFill>
        <p:spPr>
          <a:xfrm>
            <a:off x="5105520" y="1676520"/>
            <a:ext cx="4076640" cy="4362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Volume by Displacemen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4267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Submerging the object will cause the water level to ris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amount it rises, equals the volume of the rock in Liter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5105520" y="1905120"/>
            <a:ext cx="4076640" cy="4362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What is Volume by Displacement?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3276360" y="159984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thod used to find volume of an ____shaped objec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_____the object, will cause the water level to ri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e amount it rises, equals the volume of the rock in_____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52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3294000" cy="3524400"/>
          </a:xfrm>
          <a:prstGeom prst="rect">
            <a:avLst/>
          </a:prstGeom>
          <a:ln w="0">
            <a:noFill/>
          </a:ln>
        </p:spPr>
      </p:pic>
      <p:pic>
        <p:nvPicPr>
          <p:cNvPr id="953" name="" descr=""/>
          <p:cNvPicPr/>
          <p:nvPr/>
        </p:nvPicPr>
        <p:blipFill>
          <a:blip r:embed="rId3"/>
          <a:stretch/>
        </p:blipFill>
        <p:spPr>
          <a:xfrm>
            <a:off x="1066680" y="1295280"/>
            <a:ext cx="7772400" cy="427320"/>
          </a:xfrm>
          <a:prstGeom prst="rect">
            <a:avLst/>
          </a:prstGeom>
          <a:ln w="0">
            <a:noFill/>
          </a:ln>
        </p:spPr>
      </p:pic>
      <p:sp>
        <p:nvSpPr>
          <p:cNvPr id="954" name=""/>
          <p:cNvSpPr/>
          <p:nvPr/>
        </p:nvSpPr>
        <p:spPr>
          <a:xfrm>
            <a:off x="6934320" y="2286000"/>
            <a:ext cx="2057400" cy="327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7086600" y="2438280"/>
            <a:ext cx="16765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erging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m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k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regula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(s) (2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at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Mas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en we mass something, we measure how much stuff (or matter) the object is made of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-We find mass by weighing the objec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 is measured in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ram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58" name="" descr=""/>
          <p:cNvPicPr/>
          <p:nvPr/>
        </p:nvPicPr>
        <p:blipFill>
          <a:blip r:embed="rId2"/>
          <a:stretch/>
        </p:blipFill>
        <p:spPr>
          <a:xfrm>
            <a:off x="3733920" y="0"/>
            <a:ext cx="1752480" cy="1460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Mas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at has more mass? You or me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 other words, who is made up of more stuff? You or me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at has more mass? The earth or me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/>
          </p:nvPr>
        </p:nvSpPr>
        <p:spPr>
          <a:xfrm>
            <a:off x="990720" y="1371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nsit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s how tightly matter is compacte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nsit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s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an object to it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olu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density expression,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an object or substance is written in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merat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it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olu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nominat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D    =    </a:t>
            </a:r>
            <a:r>
              <a:rPr b="0" lang="en-US" sz="2400" spc="-1" strike="noStrike" u="sng">
                <a:solidFill>
                  <a:srgbClr val="dfd293"/>
                </a:solidFill>
                <a:uFillTx/>
                <a:latin typeface="Arial"/>
              </a:rPr>
              <a:t>  mass  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  =   </a:t>
            </a:r>
            <a:r>
              <a:rPr b="0" lang="en-US" sz="2400" spc="-1" strike="noStrike" u="sng">
                <a:solidFill>
                  <a:srgbClr val="dfd293"/>
                </a:solidFill>
                <a:uFillTx/>
                <a:latin typeface="Arial"/>
              </a:rPr>
              <a:t>  g  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   or   </a:t>
            </a:r>
            <a:r>
              <a:rPr b="0" lang="en-US" sz="2400" spc="-1" strike="noStrike" u="sng">
                <a:solidFill>
                  <a:srgbClr val="dfd293"/>
                </a:solidFill>
                <a:uFillTx/>
                <a:latin typeface="Arial"/>
              </a:rPr>
              <a:t>  g  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=   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g/cm</a:t>
            </a:r>
            <a:r>
              <a:rPr b="1" lang="en-US" sz="2400" spc="-1" strike="noStrike" baseline="30000">
                <a:solidFill>
                  <a:srgbClr val="ffff99"/>
                </a:solidFill>
                <a:latin typeface="Arial"/>
              </a:rPr>
              <a:t>3</a:t>
            </a:r>
            <a:br>
              <a:rPr sz="2400"/>
            </a:br>
            <a:r>
              <a:rPr b="0" lang="en-US" sz="2400" spc="-1" strike="noStrike" baseline="30000">
                <a:solidFill>
                  <a:srgbClr val="dfd29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       volume        mL           cm</a:t>
            </a:r>
            <a:r>
              <a:rPr b="0" lang="en-US" sz="2400" spc="-1" strike="noStrike" baseline="30000">
                <a:solidFill>
                  <a:srgbClr val="dfd293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Note:  1 mL = 1 cm</a:t>
            </a:r>
            <a:r>
              <a:rPr b="0" i="1" lang="en-US" sz="2400" spc="-1" strike="noStrike" baseline="30000">
                <a:solidFill>
                  <a:srgbClr val="ffff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Arial Black"/>
              </a:rPr>
              <a:t>Density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</p:spTree>
  </p:cSld>
  <p:transition spd="slow">
    <p:fade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0" dur="2000" fill="hold"/>
                                        <p:tgtEl>
                                          <p:spTgt spid="9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4" dur="1000" fill="hold"/>
                                        <p:tgtEl>
                                          <p:spTgt spid="9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Density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066320" y="914040"/>
            <a:ext cx="8077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nsity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s how tightly matter is compact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ets imagine we have 2 cubes the same siz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owever, now let us imagine that one cube is made of lead, and the other is made of Foam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y both have the same size but which one is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re dense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65" name="" descr=""/>
          <p:cNvPicPr/>
          <p:nvPr/>
        </p:nvPicPr>
        <p:blipFill>
          <a:blip r:embed="rId2"/>
          <a:stretch/>
        </p:blipFill>
        <p:spPr>
          <a:xfrm>
            <a:off x="2209680" y="4648320"/>
            <a:ext cx="4953240" cy="2041560"/>
          </a:xfrm>
          <a:prstGeom prst="rect">
            <a:avLst/>
          </a:prstGeom>
          <a:ln w="0">
            <a:noFill/>
          </a:ln>
        </p:spPr>
      </p:pic>
      <p:sp>
        <p:nvSpPr>
          <p:cNvPr id="966" name=""/>
          <p:cNvSpPr/>
          <p:nvPr/>
        </p:nvSpPr>
        <p:spPr>
          <a:xfrm>
            <a:off x="0" y="3962520"/>
            <a:ext cx="2133720" cy="7617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cc"/>
                </a:solidFill>
                <a:uFillTx/>
                <a:latin typeface="Arial"/>
              </a:rPr>
              <a:t>Lead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67" name="" descr=""/>
          <p:cNvPicPr/>
          <p:nvPr/>
        </p:nvPicPr>
        <p:blipFill>
          <a:blip r:embed="rId3"/>
          <a:stretch/>
        </p:blipFill>
        <p:spPr>
          <a:xfrm rot="2692200">
            <a:off x="1066680" y="4952520"/>
            <a:ext cx="1371600" cy="514440"/>
          </a:xfrm>
          <a:prstGeom prst="rect">
            <a:avLst/>
          </a:prstGeom>
          <a:ln w="0">
            <a:noFill/>
          </a:ln>
        </p:spPr>
      </p:pic>
      <p:sp>
        <p:nvSpPr>
          <p:cNvPr id="968" name=""/>
          <p:cNvSpPr/>
          <p:nvPr/>
        </p:nvSpPr>
        <p:spPr>
          <a:xfrm>
            <a:off x="7010280" y="3962520"/>
            <a:ext cx="2133720" cy="7617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cc"/>
                </a:solidFill>
                <a:uFillTx/>
                <a:latin typeface="Arial"/>
              </a:rPr>
              <a:t>Foam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69" name="" descr=""/>
          <p:cNvPicPr/>
          <p:nvPr/>
        </p:nvPicPr>
        <p:blipFill>
          <a:blip r:embed="rId4"/>
          <a:stretch/>
        </p:blipFill>
        <p:spPr>
          <a:xfrm rot="18855000">
            <a:off x="6786360" y="5024160"/>
            <a:ext cx="1447920" cy="542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"/>
          <p:cNvSpPr/>
          <p:nvPr/>
        </p:nvSpPr>
        <p:spPr>
          <a:xfrm>
            <a:off x="0" y="3048120"/>
            <a:ext cx="2133720" cy="7617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cc"/>
                </a:solidFill>
                <a:uFillTx/>
                <a:latin typeface="Arial"/>
              </a:rPr>
              <a:t>Lead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Density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95280" y="1447560"/>
            <a:ext cx="7315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e lead Cube is!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But why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Well, it all has to do with how much stuff is packed into the same amount of space!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73" name="" descr=""/>
          <p:cNvPicPr/>
          <p:nvPr/>
        </p:nvPicPr>
        <p:blipFill>
          <a:blip r:embed="rId2"/>
          <a:stretch/>
        </p:blipFill>
        <p:spPr>
          <a:xfrm>
            <a:off x="2133720" y="4648320"/>
            <a:ext cx="4952880" cy="2041560"/>
          </a:xfrm>
          <a:prstGeom prst="rect">
            <a:avLst/>
          </a:prstGeom>
          <a:ln w="0">
            <a:noFill/>
          </a:ln>
        </p:spPr>
      </p:pic>
      <p:pic>
        <p:nvPicPr>
          <p:cNvPr id="974" name="" descr=""/>
          <p:cNvPicPr/>
          <p:nvPr/>
        </p:nvPicPr>
        <p:blipFill>
          <a:blip r:embed="rId3"/>
          <a:stretch/>
        </p:blipFill>
        <p:spPr>
          <a:xfrm rot="2692200">
            <a:off x="1066680" y="4114440"/>
            <a:ext cx="1371600" cy="514440"/>
          </a:xfrm>
          <a:prstGeom prst="rect">
            <a:avLst/>
          </a:prstGeom>
          <a:ln w="0">
            <a:noFill/>
          </a:ln>
        </p:spPr>
      </p:pic>
      <p:sp>
        <p:nvSpPr>
          <p:cNvPr id="975" name=""/>
          <p:cNvSpPr/>
          <p:nvPr/>
        </p:nvSpPr>
        <p:spPr>
          <a:xfrm>
            <a:off x="7010280" y="2971800"/>
            <a:ext cx="2133720" cy="7621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cc"/>
                </a:solidFill>
                <a:uFillTx/>
                <a:latin typeface="Arial"/>
              </a:rPr>
              <a:t>Foam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76" name="" descr=""/>
          <p:cNvPicPr/>
          <p:nvPr/>
        </p:nvPicPr>
        <p:blipFill>
          <a:blip r:embed="rId4"/>
          <a:stretch/>
        </p:blipFill>
        <p:spPr>
          <a:xfrm rot="18855000">
            <a:off x="6786360" y="4033440"/>
            <a:ext cx="1447920" cy="542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Density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4038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et's look at these fish which are the same siz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ven though they are the same size they all have different densit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y all have the same volum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ut, each fish has a different mas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79" name="" descr=""/>
          <p:cNvPicPr/>
          <p:nvPr/>
        </p:nvPicPr>
        <p:blipFill>
          <a:blip r:embed="rId2"/>
          <a:stretch/>
        </p:blipFill>
        <p:spPr>
          <a:xfrm>
            <a:off x="4648320" y="1752480"/>
            <a:ext cx="4419360" cy="2955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What is the Metric System?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2640" y="137124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 measurement 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system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based on units or powers of ___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____ measures lengt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ram measures _____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____ measures volume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77120" y="2133720"/>
            <a:ext cx="2057400" cy="2971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629400" y="2286000"/>
            <a:ext cx="16765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ghing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371600" y="1066680"/>
            <a:ext cx="7772400" cy="427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Density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038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ach fish has a different mass, therefore each has a different weigh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reason has to do with how much stuff (matter) is packed into the same amount of space or volum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2"/>
          <a:stretch/>
        </p:blipFill>
        <p:spPr>
          <a:xfrm>
            <a:off x="4419720" y="533520"/>
            <a:ext cx="4419360" cy="2955960"/>
          </a:xfrm>
          <a:prstGeom prst="rect">
            <a:avLst/>
          </a:prstGeom>
          <a:ln w="0">
            <a:noFill/>
          </a:ln>
        </p:spPr>
      </p:pic>
      <p:pic>
        <p:nvPicPr>
          <p:cNvPr id="983" name="" descr=""/>
          <p:cNvPicPr/>
          <p:nvPr/>
        </p:nvPicPr>
        <p:blipFill>
          <a:blip r:embed="rId3"/>
          <a:stretch/>
        </p:blipFill>
        <p:spPr>
          <a:xfrm rot="16200000">
            <a:off x="4144680" y="3779640"/>
            <a:ext cx="1905120" cy="746280"/>
          </a:xfrm>
          <a:prstGeom prst="rect">
            <a:avLst/>
          </a:prstGeom>
          <a:ln w="0">
            <a:noFill/>
          </a:ln>
        </p:spPr>
      </p:pic>
      <p:sp>
        <p:nvSpPr>
          <p:cNvPr id="984" name=""/>
          <p:cNvSpPr/>
          <p:nvPr/>
        </p:nvSpPr>
        <p:spPr>
          <a:xfrm>
            <a:off x="3962520" y="5181480"/>
            <a:ext cx="2361960" cy="14479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he lead fish has the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ame volume, but, it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contains more mat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and therefore weigh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more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6781680" y="5257800"/>
            <a:ext cx="2362320" cy="14479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he wood fish has the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ame volume, but, it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contains less mat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and therefore weigh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les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86" name="" descr=""/>
          <p:cNvPicPr/>
          <p:nvPr/>
        </p:nvPicPr>
        <p:blipFill>
          <a:blip r:embed="rId4"/>
          <a:stretch/>
        </p:blipFill>
        <p:spPr>
          <a:xfrm rot="16200000">
            <a:off x="7269120" y="3855600"/>
            <a:ext cx="1904760" cy="745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/>
          </p:nvPr>
        </p:nvSpPr>
        <p:spPr>
          <a:xfrm>
            <a:off x="838080" y="15238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nsit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s how tightly matter is compacted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compares the ____of an object to its _____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ll that mass is measured in ____ and volume is measured in ______ therefore the units of density are _____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D = </a:t>
            </a:r>
            <a:r>
              <a:rPr b="0" lang="en-US" sz="2400" spc="-1" strike="noStrike" u="sng">
                <a:solidFill>
                  <a:srgbClr val="dfd293"/>
                </a:solidFill>
                <a:uFillTx/>
                <a:latin typeface="Arial"/>
              </a:rPr>
              <a:t>  mass  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= </a:t>
            </a:r>
            <a:r>
              <a:rPr b="0" lang="en-US" sz="2400" spc="-1" strike="noStrike" u="sng">
                <a:solidFill>
                  <a:srgbClr val="dfd293"/>
                </a:solidFill>
                <a:uFillTx/>
                <a:latin typeface="Arial"/>
              </a:rPr>
              <a:t>  g  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dfd293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dfd293"/>
                </a:solidFill>
                <a:uFillTx/>
                <a:latin typeface="Arial"/>
              </a:rPr>
              <a:t>  g  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g/cm</a:t>
            </a:r>
            <a:r>
              <a:rPr b="1" lang="en-US" sz="2400" spc="-1" strike="noStrike" baseline="30000">
                <a:solidFill>
                  <a:srgbClr val="ffff99"/>
                </a:solidFill>
                <a:latin typeface="Arial"/>
              </a:rPr>
              <a:t>3</a:t>
            </a:r>
            <a:br>
              <a:rPr sz="2400"/>
            </a:br>
            <a:r>
              <a:rPr b="0" lang="en-US" sz="2400" spc="-1" strike="noStrike" baseline="30000">
                <a:solidFill>
                  <a:srgbClr val="dfd29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 volume     mL       cm</a:t>
            </a:r>
            <a:r>
              <a:rPr b="0" lang="en-US" sz="2400" spc="-1" strike="noStrike" baseline="30000">
                <a:solidFill>
                  <a:srgbClr val="dfd293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Note:  1 mL = 1 cm</a:t>
            </a:r>
            <a:r>
              <a:rPr b="0" i="1" lang="en-US" sz="2400" spc="-1" strike="noStrike" baseline="30000">
                <a:solidFill>
                  <a:srgbClr val="ffff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Arial Black"/>
              </a:rPr>
              <a:t>What is Density?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2"/>
          <a:stretch/>
        </p:blipFill>
        <p:spPr>
          <a:xfrm>
            <a:off x="1371600" y="1066680"/>
            <a:ext cx="7772400" cy="42732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6934320" y="2057400"/>
            <a:ext cx="2057400" cy="3505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7086600" y="2438280"/>
            <a:ext cx="16765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erging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m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k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/m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regula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 (2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at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6" dur="2000" fill="hold"/>
                                        <p:tgtEl>
                                          <p:spTgt spid="9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0" dur="1000" fill="hold"/>
                                        <p:tgtEl>
                                          <p:spTgt spid="9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Water and Density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993" name="" descr=""/>
          <p:cNvPicPr/>
          <p:nvPr/>
        </p:nvPicPr>
        <p:blipFill>
          <a:blip r:embed="rId2"/>
          <a:stretch/>
        </p:blipFill>
        <p:spPr>
          <a:xfrm>
            <a:off x="6629400" y="1219320"/>
            <a:ext cx="2514600" cy="4457520"/>
          </a:xfrm>
          <a:prstGeom prst="rect">
            <a:avLst/>
          </a:prstGeom>
          <a:ln w="0">
            <a:noFill/>
          </a:ln>
        </p:spPr>
      </p:pic>
      <p:sp>
        <p:nvSpPr>
          <p:cNvPr id="994" name=""/>
          <p:cNvSpPr/>
          <p:nvPr/>
        </p:nvSpPr>
        <p:spPr>
          <a:xfrm>
            <a:off x="990720" y="1447920"/>
            <a:ext cx="5715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f you had a cube, and each side was 1 cm, what would it’s volume be?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ength x Width  x Heigh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ow let’s imagine this cube is empt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How much water would it take to fill it up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8520" indent="-308520">
              <a:spcBef>
                <a:spcPts val="876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m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x 1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m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x 1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m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= 1</a:t>
            </a:r>
            <a:r>
              <a:rPr b="1" lang="en-US" sz="3500" spc="-1" strike="noStrike">
                <a:solidFill>
                  <a:srgbClr val="ffff00"/>
                </a:solidFill>
                <a:latin typeface="Arial"/>
              </a:rPr>
              <a:t>cm</a:t>
            </a:r>
            <a:r>
              <a:rPr b="1" lang="en-US" sz="35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endParaRPr b="0" lang="en-US" sz="3500" spc="-1" strike="noStrike">
              <a:solidFill>
                <a:srgbClr val="ffffcc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s it turns out, it takes 1 milliliter occupies 1 cubic centimeter or cm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other words, 1mL = 1 c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nice, because it makes the density of water is equal to 1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 flipH="1">
            <a:off x="7924680" y="3657600"/>
            <a:ext cx="106704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 flipH="1" flipV="1">
            <a:off x="7010280" y="365760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7010280" y="2590560"/>
            <a:ext cx="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Water and Density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999" name="" descr=""/>
          <p:cNvPicPr/>
          <p:nvPr/>
        </p:nvPicPr>
        <p:blipFill>
          <a:blip r:embed="rId2"/>
          <a:stretch/>
        </p:blipFill>
        <p:spPr>
          <a:xfrm>
            <a:off x="5181480" y="1676520"/>
            <a:ext cx="3662640" cy="4100400"/>
          </a:xfrm>
          <a:prstGeom prst="rect">
            <a:avLst/>
          </a:prstGeom>
          <a:ln w="0">
            <a:noFill/>
          </a:ln>
        </p:spPr>
      </p:pic>
      <p:sp>
        <p:nvSpPr>
          <p:cNvPr id="1000" name=""/>
          <p:cNvSpPr/>
          <p:nvPr/>
        </p:nvSpPr>
        <p:spPr>
          <a:xfrm>
            <a:off x="129528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447920" y="1828800"/>
            <a:ext cx="37335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ater has a density of 1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f an object sinks, it has a density greater than 1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f an object floats, it has a density less than 1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696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What is the Density of Water?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03" name=""/>
          <p:cNvSpPr/>
          <p:nvPr/>
        </p:nvSpPr>
        <p:spPr>
          <a:xfrm>
            <a:off x="129528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838080" y="1752480"/>
            <a:ext cx="56390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ater has a density of___ g/m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f an object____, it has a density greater than 1and If an object_____, it has a density less than 1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05" name="" descr=""/>
          <p:cNvPicPr/>
          <p:nvPr/>
        </p:nvPicPr>
        <p:blipFill>
          <a:blip r:embed="rId2"/>
          <a:stretch/>
        </p:blipFill>
        <p:spPr>
          <a:xfrm>
            <a:off x="1219320" y="1066680"/>
            <a:ext cx="7772400" cy="427320"/>
          </a:xfrm>
          <a:prstGeom prst="rect">
            <a:avLst/>
          </a:prstGeom>
          <a:ln w="0">
            <a:noFill/>
          </a:ln>
        </p:spPr>
      </p:pic>
      <p:sp>
        <p:nvSpPr>
          <p:cNvPr id="1006" name=""/>
          <p:cNvSpPr/>
          <p:nvPr/>
        </p:nvSpPr>
        <p:spPr>
          <a:xfrm>
            <a:off x="6934320" y="2286000"/>
            <a:ext cx="2057400" cy="327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7086600" y="2438280"/>
            <a:ext cx="16765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erging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m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k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regula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 (2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at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Practice: 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 object weighs 10 grams.  It has a volume of 5 mL.  What is it’s density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981080" y="3581280"/>
            <a:ext cx="7010640" cy="2438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          </a:t>
            </a: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=   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  mass (g)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=  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  10g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= 2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g/mL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Volume (mL)    5m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2"/>
          <a:stretch/>
        </p:blipFill>
        <p:spPr>
          <a:xfrm>
            <a:off x="1219320" y="1295280"/>
            <a:ext cx="7772400" cy="427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Where is the air most dense? The least dense?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1013" name="" descr=""/>
          <p:cNvPicPr/>
          <p:nvPr/>
        </p:nvPicPr>
        <p:blipFill>
          <a:blip r:embed="rId2"/>
          <a:stretch/>
        </p:blipFill>
        <p:spPr>
          <a:xfrm>
            <a:off x="1523880" y="1295280"/>
            <a:ext cx="5943600" cy="5724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16" name="" descr=""/>
          <p:cNvPicPr/>
          <p:nvPr/>
        </p:nvPicPr>
        <p:blipFill>
          <a:blip r:embed="rId2"/>
          <a:stretch/>
        </p:blipFill>
        <p:spPr>
          <a:xfrm>
            <a:off x="-685800" y="0"/>
            <a:ext cx="10058400" cy="6856560"/>
          </a:xfrm>
          <a:prstGeom prst="rect">
            <a:avLst/>
          </a:prstGeom>
          <a:ln w="0">
            <a:noFill/>
          </a:ln>
        </p:spPr>
      </p:pic>
      <p:sp>
        <p:nvSpPr>
          <p:cNvPr id="1017" name=""/>
          <p:cNvSpPr/>
          <p:nvPr/>
        </p:nvSpPr>
        <p:spPr>
          <a:xfrm>
            <a:off x="2895480" y="914400"/>
            <a:ext cx="5791320" cy="10666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Where is the population the most dense?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The least dense?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Density Demo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 am going to mix 3 fluids of different densitie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ay attention and see if you can determine which fluid is the most dense, and which fluid is the least dense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Density Demo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at fluid was the most dense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at fluid was the least dense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22" name="" descr=""/>
          <p:cNvPicPr/>
          <p:nvPr/>
        </p:nvPicPr>
        <p:blipFill>
          <a:blip r:embed="rId2"/>
          <a:stretch/>
        </p:blipFill>
        <p:spPr>
          <a:xfrm>
            <a:off x="5057640" y="1600200"/>
            <a:ext cx="4086360" cy="4876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Fill in the Blank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4920" y="152352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The _________  __________of measurement is what we use here in the United Stat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The _________  __________ is what the rest of the world us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Scientists use the __________  ________ because it is easy to conver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Summary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Volume by displacement is when we _____ an object to find it’s volume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nsity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s the ____of an object to its _____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nsity = mass divided by _____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units of density are in either g/cm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or _____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density of ____ is equal to 1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25" name="" descr=""/>
          <p:cNvPicPr/>
          <p:nvPr/>
        </p:nvPicPr>
        <p:blipFill>
          <a:blip r:embed="rId2"/>
          <a:stretch/>
        </p:blipFill>
        <p:spPr>
          <a:xfrm>
            <a:off x="1143000" y="1143000"/>
            <a:ext cx="7772400" cy="426960"/>
          </a:xfrm>
          <a:prstGeom prst="rect">
            <a:avLst/>
          </a:prstGeom>
          <a:ln w="0">
            <a:noFill/>
          </a:ln>
        </p:spPr>
      </p:pic>
      <p:sp>
        <p:nvSpPr>
          <p:cNvPr id="1026" name=""/>
          <p:cNvSpPr/>
          <p:nvPr/>
        </p:nvSpPr>
        <p:spPr>
          <a:xfrm>
            <a:off x="6934320" y="2286000"/>
            <a:ext cx="2057400" cy="2590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7086600" y="2286000"/>
            <a:ext cx="16765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erg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 (2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/m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Topic: Science Basic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ctive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 will understand the difference between an element and a molecu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 will know how different forms of energy and they are transferre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 will know the different layers of the eart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Element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Matter, that is everything on earth and beyond is made of substances called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lemen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is a substance that cannot be broken down into simpler substances by physical or chemical means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usually combine with other elements to form compound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32" name="" descr=""/>
          <p:cNvPicPr/>
          <p:nvPr/>
        </p:nvPicPr>
        <p:blipFill>
          <a:blip r:embed="rId2"/>
          <a:stretch/>
        </p:blipFill>
        <p:spPr>
          <a:xfrm>
            <a:off x="1905120" y="4114800"/>
            <a:ext cx="548640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Element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1034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5486400"/>
          </a:xfrm>
          <a:prstGeom prst="rect">
            <a:avLst/>
          </a:prstGeom>
          <a:ln w="0">
            <a:noFill/>
          </a:ln>
        </p:spPr>
      </p:pic>
      <p:pic>
        <p:nvPicPr>
          <p:cNvPr id="103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24280" y="1143000"/>
            <a:ext cx="3772080" cy="2641680"/>
          </a:xfrm>
          <a:prstGeom prst="rect">
            <a:avLst/>
          </a:prstGeom>
          <a:ln w="0">
            <a:noFill/>
          </a:ln>
        </p:spPr>
      </p:pic>
      <p:pic>
        <p:nvPicPr>
          <p:cNvPr id="1036" name="" descr=""/>
          <p:cNvPicPr/>
          <p:nvPr/>
        </p:nvPicPr>
        <p:blipFill>
          <a:blip r:embed="rId5"/>
          <a:stretch/>
        </p:blipFill>
        <p:spPr>
          <a:xfrm rot="17811000">
            <a:off x="4959360" y="3890520"/>
            <a:ext cx="1816200" cy="314280"/>
          </a:xfrm>
          <a:prstGeom prst="rect">
            <a:avLst/>
          </a:prstGeom>
          <a:ln w="0">
            <a:noFill/>
          </a:ln>
        </p:spPr>
      </p:pic>
      <p:pic>
        <p:nvPicPr>
          <p:cNvPr id="1037" name="" descr=""/>
          <p:cNvPicPr/>
          <p:nvPr/>
        </p:nvPicPr>
        <p:blipFill>
          <a:blip r:embed="rId6"/>
          <a:stretch/>
        </p:blipFill>
        <p:spPr>
          <a:xfrm>
            <a:off x="1066680" y="1371600"/>
            <a:ext cx="3438720" cy="4581360"/>
          </a:xfrm>
          <a:prstGeom prst="rect">
            <a:avLst/>
          </a:prstGeom>
          <a:ln w="0">
            <a:noFill/>
          </a:ln>
        </p:spPr>
      </p:pic>
      <p:pic>
        <p:nvPicPr>
          <p:cNvPr id="1038" name="" descr=""/>
          <p:cNvPicPr/>
          <p:nvPr/>
        </p:nvPicPr>
        <p:blipFill>
          <a:blip r:embed="rId7"/>
          <a:stretch/>
        </p:blipFill>
        <p:spPr>
          <a:xfrm rot="10331400">
            <a:off x="3736080" y="2961720"/>
            <a:ext cx="2806920" cy="314280"/>
          </a:xfrm>
          <a:prstGeom prst="rect">
            <a:avLst/>
          </a:prstGeom>
          <a:ln w="0">
            <a:noFill/>
          </a:ln>
        </p:spPr>
      </p:pic>
      <p:sp>
        <p:nvSpPr>
          <p:cNvPr id="1039" name=""/>
          <p:cNvSpPr/>
          <p:nvPr/>
        </p:nvSpPr>
        <p:spPr>
          <a:xfrm>
            <a:off x="1066680" y="1371600"/>
            <a:ext cx="137160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Diamond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Pure Carbon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724280" y="1143000"/>
            <a:ext cx="137160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Gold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Au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0" dur="500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4" dur="500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8" dur="500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8" dur="500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2" dur="500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6" dur="500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Compound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42" name=""/>
          <p:cNvSpPr/>
          <p:nvPr/>
        </p:nvSpPr>
        <p:spPr>
          <a:xfrm>
            <a:off x="838080" y="1371600"/>
            <a:ext cx="51055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en two or more elements bond with each other, we call it a compoun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ater is a compound that forms between two elements– Hydrogen and oxyge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alt is a compound that forms between Sodium and Chlorin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43" name="" descr=""/>
          <p:cNvPicPr/>
          <p:nvPr/>
        </p:nvPicPr>
        <p:blipFill>
          <a:blip r:embed="rId2"/>
          <a:stretch/>
        </p:blipFill>
        <p:spPr>
          <a:xfrm>
            <a:off x="5943600" y="990720"/>
            <a:ext cx="3048120" cy="2011320"/>
          </a:xfrm>
          <a:prstGeom prst="rect">
            <a:avLst/>
          </a:prstGeom>
          <a:ln w="0">
            <a:noFill/>
          </a:ln>
        </p:spPr>
      </p:pic>
      <p:pic>
        <p:nvPicPr>
          <p:cNvPr id="1044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2952720" cy="2952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10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5" dur="500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Compound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1046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5486400"/>
          </a:xfrm>
          <a:prstGeom prst="rect">
            <a:avLst/>
          </a:prstGeom>
          <a:ln w="0">
            <a:noFill/>
          </a:ln>
        </p:spPr>
      </p:pic>
      <p:pic>
        <p:nvPicPr>
          <p:cNvPr id="1047" name="" descr=""/>
          <p:cNvPicPr/>
          <p:nvPr/>
        </p:nvPicPr>
        <p:blipFill>
          <a:blip r:embed="rId3"/>
          <a:stretch/>
        </p:blipFill>
        <p:spPr>
          <a:xfrm>
            <a:off x="1523880" y="1295280"/>
            <a:ext cx="4419720" cy="2916360"/>
          </a:xfrm>
          <a:prstGeom prst="rect">
            <a:avLst/>
          </a:prstGeom>
          <a:ln w="0">
            <a:noFill/>
          </a:ln>
        </p:spPr>
      </p:pic>
      <p:pic>
        <p:nvPicPr>
          <p:cNvPr id="1048" name="" descr=""/>
          <p:cNvPicPr/>
          <p:nvPr/>
        </p:nvPicPr>
        <p:blipFill>
          <a:blip r:embed="rId4"/>
          <a:stretch/>
        </p:blipFill>
        <p:spPr>
          <a:xfrm>
            <a:off x="609480" y="2286000"/>
            <a:ext cx="1219320" cy="309600"/>
          </a:xfrm>
          <a:prstGeom prst="rect">
            <a:avLst/>
          </a:prstGeom>
          <a:ln w="0">
            <a:noFill/>
          </a:ln>
        </p:spPr>
      </p:pic>
      <p:pic>
        <p:nvPicPr>
          <p:cNvPr id="1049" name="" descr=""/>
          <p:cNvPicPr/>
          <p:nvPr/>
        </p:nvPicPr>
        <p:blipFill>
          <a:blip r:embed="rId5"/>
          <a:stretch/>
        </p:blipFill>
        <p:spPr>
          <a:xfrm rot="11478600">
            <a:off x="5476680" y="2594880"/>
            <a:ext cx="2057400" cy="299880"/>
          </a:xfrm>
          <a:prstGeom prst="rect">
            <a:avLst/>
          </a:prstGeom>
          <a:ln w="0">
            <a:noFill/>
          </a:ln>
        </p:spPr>
      </p:pic>
      <p:pic>
        <p:nvPicPr>
          <p:cNvPr id="1050" name="" descr=""/>
          <p:cNvPicPr/>
          <p:nvPr/>
        </p:nvPicPr>
        <p:blipFill>
          <a:blip r:embed="rId6"/>
          <a:stretch/>
        </p:blipFill>
        <p:spPr>
          <a:xfrm>
            <a:off x="2514600" y="205740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1051" name="" descr=""/>
          <p:cNvPicPr/>
          <p:nvPr/>
        </p:nvPicPr>
        <p:blipFill>
          <a:blip r:embed="rId7"/>
          <a:stretch/>
        </p:blipFill>
        <p:spPr>
          <a:xfrm>
            <a:off x="609480" y="3352680"/>
            <a:ext cx="2210040" cy="309600"/>
          </a:xfrm>
          <a:prstGeom prst="rect">
            <a:avLst/>
          </a:prstGeom>
          <a:ln w="0">
            <a:noFill/>
          </a:ln>
        </p:spPr>
      </p:pic>
      <p:pic>
        <p:nvPicPr>
          <p:cNvPr id="1052" name="" descr=""/>
          <p:cNvPicPr/>
          <p:nvPr/>
        </p:nvPicPr>
        <p:blipFill>
          <a:blip r:embed="rId8"/>
          <a:stretch/>
        </p:blipFill>
        <p:spPr>
          <a:xfrm rot="10800000">
            <a:off x="5181480" y="3352680"/>
            <a:ext cx="2743200" cy="300240"/>
          </a:xfrm>
          <a:prstGeom prst="rect">
            <a:avLst/>
          </a:prstGeom>
          <a:ln w="0">
            <a:noFill/>
          </a:ln>
        </p:spPr>
      </p:pic>
      <p:sp>
        <p:nvSpPr>
          <p:cNvPr id="1053" name=""/>
          <p:cNvSpPr/>
          <p:nvPr/>
        </p:nvSpPr>
        <p:spPr>
          <a:xfrm>
            <a:off x="1523880" y="1295280"/>
            <a:ext cx="129564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590920" y="4267080"/>
            <a:ext cx="129528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alt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NaCl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1" dur="500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5" dur="500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9" dur="500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3" dur="500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7" dur="500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1" dur="500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5" dur="500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9" dur="500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What is the difference between an Element and a Compound?</a:t>
            </a:r>
            <a:endParaRPr b="0" lang="en-US" sz="32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6782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lements are the ____substances that cannot be broken dow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en two or more elements bond with each other, we call it a_____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5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3733920"/>
            <a:ext cx="3504960" cy="2401920"/>
          </a:xfrm>
          <a:prstGeom prst="rect">
            <a:avLst/>
          </a:prstGeom>
          <a:ln w="0">
            <a:noFill/>
          </a:ln>
        </p:spPr>
      </p:pic>
      <p:sp>
        <p:nvSpPr>
          <p:cNvPr id="1058" name=""/>
          <p:cNvSpPr/>
          <p:nvPr/>
        </p:nvSpPr>
        <p:spPr>
          <a:xfrm>
            <a:off x="228600" y="5791320"/>
            <a:ext cx="3505320" cy="8380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e2a00"/>
                </a:solidFill>
                <a:latin typeface="Arial"/>
              </a:rPr>
              <a:t>Elemen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59" name="" descr=""/>
          <p:cNvPicPr/>
          <p:nvPr/>
        </p:nvPicPr>
        <p:blipFill>
          <a:blip r:embed="rId4"/>
          <a:stretch/>
        </p:blipFill>
        <p:spPr>
          <a:xfrm>
            <a:off x="228600" y="228600"/>
            <a:ext cx="676440" cy="614520"/>
          </a:xfrm>
          <a:prstGeom prst="rect">
            <a:avLst/>
          </a:prstGeom>
          <a:ln w="0">
            <a:noFill/>
          </a:ln>
        </p:spPr>
      </p:pic>
      <p:pic>
        <p:nvPicPr>
          <p:cNvPr id="1060" name="" descr=""/>
          <p:cNvPicPr/>
          <p:nvPr/>
        </p:nvPicPr>
        <p:blipFill>
          <a:blip r:embed="rId5"/>
          <a:stretch/>
        </p:blipFill>
        <p:spPr>
          <a:xfrm>
            <a:off x="1143000" y="1143000"/>
            <a:ext cx="7772400" cy="426960"/>
          </a:xfrm>
          <a:prstGeom prst="rect">
            <a:avLst/>
          </a:prstGeom>
          <a:ln w="0">
            <a:noFill/>
          </a:ln>
        </p:spPr>
      </p:pic>
      <p:pic>
        <p:nvPicPr>
          <p:cNvPr id="1061" name="" descr=""/>
          <p:cNvPicPr/>
          <p:nvPr/>
        </p:nvPicPr>
        <p:blipFill>
          <a:blip r:embed="rId6"/>
          <a:stretch/>
        </p:blipFill>
        <p:spPr>
          <a:xfrm>
            <a:off x="3962520" y="3581280"/>
            <a:ext cx="3581280" cy="2916360"/>
          </a:xfrm>
          <a:prstGeom prst="rect">
            <a:avLst/>
          </a:prstGeom>
          <a:ln w="0">
            <a:noFill/>
          </a:ln>
        </p:spPr>
      </p:pic>
      <p:sp>
        <p:nvSpPr>
          <p:cNvPr id="1062" name=""/>
          <p:cNvSpPr/>
          <p:nvPr/>
        </p:nvSpPr>
        <p:spPr>
          <a:xfrm>
            <a:off x="3962520" y="5791320"/>
            <a:ext cx="3581280" cy="8380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e2a00"/>
                </a:solidFill>
                <a:latin typeface="Arial"/>
              </a:rPr>
              <a:t>Compound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7620120" y="2209680"/>
            <a:ext cx="1447560" cy="2590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7772400" y="2209680"/>
            <a:ext cx="1150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us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mp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un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s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Hea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9"/>
                </a:solidFill>
                <a:latin typeface="Arial"/>
              </a:rPr>
              <a:t>Heat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is the energy that moves from an object with a higher temperature to an object with a lower temperatu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en an object has no heat, this object is </a:t>
            </a:r>
            <a:r>
              <a:rPr b="0" i="1" lang="en-US" sz="3200" spc="-1" strike="noStrike">
                <a:solidFill>
                  <a:srgbClr val="ffff99"/>
                </a:solidFill>
                <a:latin typeface="Arial"/>
              </a:rPr>
              <a:t>cold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 Black"/>
              </a:rPr>
              <a:t>What is Heat?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6477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e energy that ___ from an object with a higher temperature to an object with a lower temperatu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69" name="" descr=""/>
          <p:cNvPicPr/>
          <p:nvPr/>
        </p:nvPicPr>
        <p:blipFill>
          <a:blip r:embed="rId2"/>
          <a:stretch/>
        </p:blipFill>
        <p:spPr>
          <a:xfrm>
            <a:off x="1371600" y="1224000"/>
            <a:ext cx="7772400" cy="426960"/>
          </a:xfrm>
          <a:prstGeom prst="rect">
            <a:avLst/>
          </a:prstGeom>
          <a:ln w="0">
            <a:noFill/>
          </a:ln>
        </p:spPr>
      </p:pic>
      <p:pic>
        <p:nvPicPr>
          <p:cNvPr id="107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71600" cy="1044720"/>
          </a:xfrm>
          <a:prstGeom prst="rect">
            <a:avLst/>
          </a:prstGeom>
          <a:ln w="0">
            <a:noFill/>
          </a:ln>
        </p:spPr>
      </p:pic>
      <p:sp>
        <p:nvSpPr>
          <p:cNvPr id="1071" name=""/>
          <p:cNvSpPr/>
          <p:nvPr/>
        </p:nvSpPr>
        <p:spPr>
          <a:xfrm>
            <a:off x="7010280" y="2819520"/>
            <a:ext cx="1447920" cy="259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7162920" y="2819520"/>
            <a:ext cx="11509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us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mp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un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s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0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769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onvection</a:t>
            </a: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761760" y="914040"/>
            <a:ext cx="4267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onvection is the transfer of heat by the flow of a heated materi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nly occurs with gases and liquid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762120" y="3809520"/>
            <a:ext cx="8686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hen gases and liquids are warmed, their molecules move apart, increasing its volume and decreasing its density, causing it to rise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ventually, gas or liquid will start to cool, causing it to fall back down and the cycle repeats itself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76" name="" descr="An animation depicting convection current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29200" y="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Each unit is 10 times </a:t>
            </a:r>
            <a:br>
              <a:rPr sz="4000"/>
            </a:b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Smaller or 10 times Larger!!!!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676520"/>
            <a:ext cx="8458200" cy="53316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 meter is the basic unit of length in the metric syst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16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Black"/>
              </a:rPr>
              <a:t>Conduction</a:t>
            </a: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3886200" y="114264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e surface of the earth absorbs radiation, causing the molecules to rub into one another – Conduc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onduction is the transfer of energy that occurs when molecules bump into one anoth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79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3962520" cy="3502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/>
          <p:nvPr/>
        </p:nvSpPr>
        <p:spPr>
          <a:xfrm>
            <a:off x="3581280" y="1219320"/>
            <a:ext cx="586764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Conduction and Heat Transfer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1082" name="" descr=""/>
          <p:cNvPicPr/>
          <p:nvPr/>
        </p:nvPicPr>
        <p:blipFill>
          <a:blip r:embed="rId2"/>
          <a:stretch/>
        </p:blipFill>
        <p:spPr>
          <a:xfrm rot="1048200">
            <a:off x="4647960" y="1752480"/>
            <a:ext cx="3886200" cy="3727440"/>
          </a:xfrm>
          <a:prstGeom prst="rect">
            <a:avLst/>
          </a:prstGeom>
          <a:ln w="0">
            <a:noFill/>
          </a:ln>
        </p:spPr>
      </p:pic>
      <p:sp>
        <p:nvSpPr>
          <p:cNvPr id="1083" name=""/>
          <p:cNvSpPr/>
          <p:nvPr/>
        </p:nvSpPr>
        <p:spPr>
          <a:xfrm>
            <a:off x="4724280" y="3429000"/>
            <a:ext cx="2438640" cy="558720"/>
          </a:xfrm>
          <a:custGeom>
            <a:avLst/>
            <a:gdLst/>
            <a:ahLst/>
            <a:rect l="l" t="t" r="r" b="b"/>
            <a:pathLst>
              <a:path w="1448" h="352">
                <a:moveTo>
                  <a:pt x="1448" y="96"/>
                </a:moveTo>
                <a:cubicBezTo>
                  <a:pt x="732" y="224"/>
                  <a:pt x="16" y="352"/>
                  <a:pt x="8" y="336"/>
                </a:cubicBezTo>
                <a:cubicBezTo>
                  <a:pt x="0" y="320"/>
                  <a:pt x="1168" y="56"/>
                  <a:pt x="1400" y="0"/>
                </a:cubicBezTo>
              </a:path>
            </a:pathLst>
          </a:custGeom>
          <a:solidFill>
            <a:srgbClr val="ff00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84" name="" descr=""/>
          <p:cNvPicPr/>
          <p:nvPr/>
        </p:nvPicPr>
        <p:blipFill>
          <a:blip r:embed="rId3"/>
          <a:stretch/>
        </p:blipFill>
        <p:spPr>
          <a:xfrm>
            <a:off x="3581280" y="3581280"/>
            <a:ext cx="2286000" cy="2514600"/>
          </a:xfrm>
          <a:prstGeom prst="rect">
            <a:avLst/>
          </a:prstGeom>
          <a:ln w="0">
            <a:noFill/>
          </a:ln>
        </p:spPr>
      </p:pic>
      <p:sp>
        <p:nvSpPr>
          <p:cNvPr id="1085" name=""/>
          <p:cNvSpPr/>
          <p:nvPr/>
        </p:nvSpPr>
        <p:spPr>
          <a:xfrm rot="21021600">
            <a:off x="3962520" y="2590560"/>
            <a:ext cx="24382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t Flow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 flipV="1">
            <a:off x="4724280" y="3047760"/>
            <a:ext cx="221004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685800" y="1371600"/>
            <a:ext cx="297180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onduction is the transfer of heat that occurs when molecules bump into one anoth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Black"/>
              </a:rPr>
              <a:t>What’s the difference between Convection and Conduction?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3429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onduction is the transfer of energy that occurs when molecules ___ into one anoth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ction is the transfer of heat by the ____ of a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ed materi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90" name="" descr=""/>
          <p:cNvPicPr/>
          <p:nvPr/>
        </p:nvPicPr>
        <p:blipFill>
          <a:blip r:embed="rId2"/>
          <a:stretch/>
        </p:blipFill>
        <p:spPr>
          <a:xfrm>
            <a:off x="4038480" y="1600200"/>
            <a:ext cx="3048120" cy="2693880"/>
          </a:xfrm>
          <a:prstGeom prst="rect">
            <a:avLst/>
          </a:prstGeom>
          <a:ln w="0">
            <a:noFill/>
          </a:ln>
        </p:spPr>
      </p:pic>
      <p:pic>
        <p:nvPicPr>
          <p:cNvPr id="1091" name="" descr=""/>
          <p:cNvPicPr/>
          <p:nvPr/>
        </p:nvPicPr>
        <p:blipFill>
          <a:blip r:embed="rId3"/>
          <a:stretch/>
        </p:blipFill>
        <p:spPr>
          <a:xfrm>
            <a:off x="1371600" y="1224000"/>
            <a:ext cx="7772400" cy="426960"/>
          </a:xfrm>
          <a:prstGeom prst="rect">
            <a:avLst/>
          </a:prstGeom>
          <a:ln w="0">
            <a:noFill/>
          </a:ln>
        </p:spPr>
      </p:pic>
      <p:pic>
        <p:nvPicPr>
          <p:cNvPr id="109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371600" cy="1044720"/>
          </a:xfrm>
          <a:prstGeom prst="rect">
            <a:avLst/>
          </a:prstGeom>
          <a:ln w="0">
            <a:noFill/>
          </a:ln>
        </p:spPr>
      </p:pic>
      <p:pic>
        <p:nvPicPr>
          <p:cNvPr id="1093" name="" descr="An animation depicting convection current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09880" y="4172040"/>
            <a:ext cx="3581640" cy="2685960"/>
          </a:xfrm>
          <a:prstGeom prst="rect">
            <a:avLst/>
          </a:prstGeom>
          <a:ln w="0">
            <a:noFill/>
          </a:ln>
        </p:spPr>
      </p:pic>
      <p:sp>
        <p:nvSpPr>
          <p:cNvPr id="1094" name=""/>
          <p:cNvSpPr/>
          <p:nvPr/>
        </p:nvSpPr>
        <p:spPr>
          <a:xfrm>
            <a:off x="7620120" y="2209680"/>
            <a:ext cx="1447560" cy="2590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7772400" y="2209680"/>
            <a:ext cx="1150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us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mp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un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s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0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Radiation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171840" y="1752120"/>
            <a:ext cx="2971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nother way energy is transferred is by radia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nergy transfer through space by electromagnetic waves in the form of visible light, Ultraviolet, X-rays, and gamma wav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98" name="" descr=""/>
          <p:cNvPicPr/>
          <p:nvPr/>
        </p:nvPicPr>
        <p:blipFill>
          <a:blip r:embed="rId2"/>
          <a:stretch/>
        </p:blipFill>
        <p:spPr>
          <a:xfrm>
            <a:off x="4343400" y="228600"/>
            <a:ext cx="1238400" cy="1238400"/>
          </a:xfrm>
          <a:prstGeom prst="rect">
            <a:avLst/>
          </a:prstGeom>
          <a:ln w="0">
            <a:noFill/>
          </a:ln>
        </p:spPr>
      </p:pic>
      <p:pic>
        <p:nvPicPr>
          <p:cNvPr id="1099" name="" descr=""/>
          <p:cNvPicPr/>
          <p:nvPr/>
        </p:nvPicPr>
        <p:blipFill>
          <a:blip r:embed="rId3"/>
          <a:stretch/>
        </p:blipFill>
        <p:spPr>
          <a:xfrm>
            <a:off x="6019920" y="228600"/>
            <a:ext cx="1638360" cy="112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0" name="ShockwaveFlash1"/>
          <p:cNvGraphicFramePr/>
          <p:nvPr/>
        </p:nvGraphicFramePr>
        <p:xfrm>
          <a:off x="533520" y="1219320"/>
          <a:ext cx="5333760" cy="548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01" name="ShockwaveFlash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1219320"/>
                    <a:ext cx="5333760" cy="5486400"/>
                  </a:xfrm>
                  <a:prstGeom prst="rect">
                    <a:avLst/>
                  </a:prstGeom>
                  <a:ln w="9360">
                    <a:solidFill>
                      <a:srgbClr val="ffffcc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What is Radiation?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6248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nergy transfer through space by in the form of wave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: visible light, Ultraviolet, X-rays, and gamma wav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1105" name=""/>
          <p:cNvSpPr/>
          <p:nvPr/>
        </p:nvSpPr>
        <p:spPr>
          <a:xfrm>
            <a:off x="7391520" y="2209680"/>
            <a:ext cx="1447560" cy="2590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7543800" y="2209680"/>
            <a:ext cx="1150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mp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un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s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"/>
          <p:cNvSpPr/>
          <p:nvPr/>
        </p:nvSpPr>
        <p:spPr>
          <a:xfrm>
            <a:off x="-228600" y="-152280"/>
            <a:ext cx="1676520" cy="7010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08" name="" descr=""/>
          <p:cNvPicPr/>
          <p:nvPr/>
        </p:nvPicPr>
        <p:blipFill>
          <a:blip r:embed="rId2"/>
          <a:stretch/>
        </p:blipFill>
        <p:spPr>
          <a:xfrm>
            <a:off x="1447920" y="0"/>
            <a:ext cx="7696080" cy="6869160"/>
          </a:xfrm>
          <a:prstGeom prst="rect">
            <a:avLst/>
          </a:prstGeom>
          <a:ln w="0">
            <a:noFill/>
          </a:ln>
        </p:spPr>
      </p:pic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Earth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110" name=""/>
          <p:cNvSpPr/>
          <p:nvPr/>
        </p:nvSpPr>
        <p:spPr>
          <a:xfrm>
            <a:off x="3200400" y="2590920"/>
            <a:ext cx="1371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quid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ron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1905120" y="1981080"/>
            <a:ext cx="1447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tl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molten rock)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219320" y="1143000"/>
            <a:ext cx="1447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us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thin rocky outer layer)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 flipH="1">
            <a:off x="1066320" y="4419720"/>
            <a:ext cx="381240" cy="1522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1828800" y="152280"/>
            <a:ext cx="3479760" cy="6451560"/>
          </a:xfrm>
          <a:custGeom>
            <a:avLst/>
            <a:gdLst/>
            <a:ahLst/>
            <a:rect l="l" t="t" r="r" b="b"/>
            <a:pathLst>
              <a:path w="2192" h="4064">
                <a:moveTo>
                  <a:pt x="2128" y="4040"/>
                </a:moveTo>
                <a:cubicBezTo>
                  <a:pt x="2048" y="4052"/>
                  <a:pt x="1968" y="4064"/>
                  <a:pt x="1840" y="4040"/>
                </a:cubicBezTo>
                <a:cubicBezTo>
                  <a:pt x="1712" y="4016"/>
                  <a:pt x="1496" y="3944"/>
                  <a:pt x="1360" y="3896"/>
                </a:cubicBezTo>
                <a:cubicBezTo>
                  <a:pt x="1224" y="3848"/>
                  <a:pt x="1136" y="3816"/>
                  <a:pt x="1024" y="3752"/>
                </a:cubicBezTo>
                <a:cubicBezTo>
                  <a:pt x="912" y="3688"/>
                  <a:pt x="784" y="3592"/>
                  <a:pt x="688" y="3512"/>
                </a:cubicBezTo>
                <a:cubicBezTo>
                  <a:pt x="592" y="3432"/>
                  <a:pt x="520" y="3360"/>
                  <a:pt x="448" y="3272"/>
                </a:cubicBezTo>
                <a:cubicBezTo>
                  <a:pt x="376" y="3184"/>
                  <a:pt x="312" y="3080"/>
                  <a:pt x="256" y="2984"/>
                </a:cubicBezTo>
                <a:cubicBezTo>
                  <a:pt x="200" y="2888"/>
                  <a:pt x="152" y="2816"/>
                  <a:pt x="112" y="2696"/>
                </a:cubicBezTo>
                <a:cubicBezTo>
                  <a:pt x="72" y="2576"/>
                  <a:pt x="32" y="2408"/>
                  <a:pt x="16" y="2264"/>
                </a:cubicBezTo>
                <a:cubicBezTo>
                  <a:pt x="0" y="2120"/>
                  <a:pt x="0" y="1984"/>
                  <a:pt x="16" y="1832"/>
                </a:cubicBezTo>
                <a:cubicBezTo>
                  <a:pt x="32" y="1680"/>
                  <a:pt x="64" y="1488"/>
                  <a:pt x="112" y="1352"/>
                </a:cubicBezTo>
                <a:cubicBezTo>
                  <a:pt x="160" y="1216"/>
                  <a:pt x="232" y="1128"/>
                  <a:pt x="304" y="1016"/>
                </a:cubicBezTo>
                <a:cubicBezTo>
                  <a:pt x="376" y="904"/>
                  <a:pt x="448" y="784"/>
                  <a:pt x="544" y="680"/>
                </a:cubicBezTo>
                <a:cubicBezTo>
                  <a:pt x="640" y="576"/>
                  <a:pt x="768" y="472"/>
                  <a:pt x="880" y="392"/>
                </a:cubicBezTo>
                <a:cubicBezTo>
                  <a:pt x="992" y="312"/>
                  <a:pt x="1096" y="248"/>
                  <a:pt x="1216" y="200"/>
                </a:cubicBezTo>
                <a:cubicBezTo>
                  <a:pt x="1336" y="152"/>
                  <a:pt x="1504" y="128"/>
                  <a:pt x="1600" y="104"/>
                </a:cubicBezTo>
                <a:cubicBezTo>
                  <a:pt x="1696" y="80"/>
                  <a:pt x="1704" y="72"/>
                  <a:pt x="1792" y="56"/>
                </a:cubicBezTo>
                <a:cubicBezTo>
                  <a:pt x="1880" y="40"/>
                  <a:pt x="2064" y="16"/>
                  <a:pt x="2128" y="8"/>
                </a:cubicBezTo>
                <a:cubicBezTo>
                  <a:pt x="2192" y="0"/>
                  <a:pt x="2168" y="8"/>
                  <a:pt x="2176" y="8"/>
                </a:cubicBezTo>
              </a:path>
            </a:pathLst>
          </a:custGeom>
          <a:noFill/>
          <a:ln w="117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152280" y="5791320"/>
            <a:ext cx="2362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thospher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nse layer made up of the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ust and upper mantle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 rot="18974400">
            <a:off x="2371320" y="5208120"/>
            <a:ext cx="38088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 flipH="1">
            <a:off x="2209680" y="5638680"/>
            <a:ext cx="15264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4495680" y="2971800"/>
            <a:ext cx="990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id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2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2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000"/>
                            </p:stCondLst>
                            <p:childTnLst>
                              <p:par>
                                <p:cTn id="7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20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20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4000"/>
                            </p:stCondLst>
                            <p:childTnLst>
                              <p:par>
                                <p:cTn id="7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20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20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6000"/>
                            </p:stCondLst>
                            <p:childTnLst>
                              <p:par>
                                <p:cTn id="7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20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20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8000"/>
                            </p:stCondLst>
                            <p:childTnLst>
                              <p:par>
                                <p:cTn id="7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3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1000"/>
                            </p:stCondLst>
                            <p:childTnLst>
                              <p:par>
                                <p:cTn id="7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2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3000"/>
                            </p:stCondLst>
                            <p:childTnLst>
                              <p:par>
                                <p:cTn id="7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20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20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What are the layers of the earth?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6248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Arial"/>
              </a:rPr>
              <a:t>Inner core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lid ir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Arial"/>
              </a:rPr>
              <a:t>Outer core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–____ ir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Arial"/>
              </a:rPr>
              <a:t>Mantle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- molten rock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Arial"/>
              </a:rPr>
              <a:t>Crust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– thin rocky outer lay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Arial"/>
              </a:rPr>
              <a:t>Lithosphere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nse part made up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f the ____ and outer mant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7543800" y="2209680"/>
            <a:ext cx="1447920" cy="2590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7696080" y="2209680"/>
            <a:ext cx="1150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us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mp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un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s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Summarize: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6172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simplest substances on earth are called _____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lements combine with other elements to form _____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______ is the transfer of heat by the flow of a materi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raw and label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25" name="" descr=""/>
          <p:cNvPicPr/>
          <p:nvPr/>
        </p:nvPicPr>
        <p:blipFill>
          <a:blip r:embed="rId2"/>
          <a:stretch/>
        </p:blipFill>
        <p:spPr>
          <a:xfrm>
            <a:off x="1371600" y="838080"/>
            <a:ext cx="7772400" cy="427320"/>
          </a:xfrm>
          <a:prstGeom prst="rect">
            <a:avLst/>
          </a:prstGeom>
          <a:ln w="0">
            <a:noFill/>
          </a:ln>
        </p:spPr>
      </p:pic>
      <p:pic>
        <p:nvPicPr>
          <p:cNvPr id="1126" name="" descr=""/>
          <p:cNvPicPr/>
          <p:nvPr/>
        </p:nvPicPr>
        <p:blipFill>
          <a:blip r:embed="rId3"/>
          <a:stretch/>
        </p:blipFill>
        <p:spPr>
          <a:xfrm>
            <a:off x="4800600" y="3657600"/>
            <a:ext cx="4343400" cy="3081240"/>
          </a:xfrm>
          <a:prstGeom prst="rect">
            <a:avLst/>
          </a:prstGeom>
          <a:ln w="0">
            <a:noFill/>
          </a:ln>
        </p:spPr>
      </p:pic>
      <p:sp>
        <p:nvSpPr>
          <p:cNvPr id="1127" name=""/>
          <p:cNvSpPr/>
          <p:nvPr/>
        </p:nvSpPr>
        <p:spPr>
          <a:xfrm>
            <a:off x="7543800" y="1295280"/>
            <a:ext cx="1447920" cy="2210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7696080" y="1295280"/>
            <a:ext cx="1150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und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c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0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752480"/>
            <a:ext cx="8458200" cy="5335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2438280"/>
            <a:ext cx="8384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2438280"/>
            <a:ext cx="8384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9112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2438280"/>
            <a:ext cx="8384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4380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3695760" y="-647640"/>
            <a:ext cx="990360" cy="8381880"/>
          </a:xfrm>
          <a:custGeom>
            <a:avLst/>
            <a:gdLst>
              <a:gd name="textAreaLeft" fmla="*/ 632880 w 990360"/>
              <a:gd name="textAreaRight" fmla="*/ 990720 w 990360"/>
              <a:gd name="textAreaTop" fmla="*/ 218520 h 8381880"/>
              <a:gd name="textAreaBottom" fmla="*/ 8163360 h 838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57400" y="4267080"/>
            <a:ext cx="4495680" cy="19051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0 decimeters fit into on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 met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30492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Each unit is 10 times </a:t>
            </a:r>
            <a:br>
              <a:rPr sz="4000"/>
            </a:b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Smaller or 10 times Larger!!!!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0 centimeters make up one decimet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676520"/>
            <a:ext cx="8458200" cy="53316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2438280"/>
            <a:ext cx="8384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7652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438280"/>
            <a:ext cx="8384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19112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2920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2438280"/>
            <a:ext cx="8384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4419720"/>
            <a:ext cx="71629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Each unit is 10 times </a:t>
            </a:r>
            <a:br>
              <a:rPr sz="3600"/>
            </a:b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Smaller or 10 times Larger!!!!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04:05:52Z</dcterms:created>
  <dc:creator>MGJ</dc:creator>
  <dc:description/>
  <dc:language>en-US</dc:language>
  <cp:lastModifiedBy>jfuller</cp:lastModifiedBy>
  <dcterms:modified xsi:type="dcterms:W3CDTF">2011-01-06T16:59:32Z</dcterms:modified>
  <cp:revision>89</cp:revision>
  <dc:subject/>
  <dc:title>The Metric System</dc:title>
</cp:coreProperties>
</file>